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316214"/>
        <c:axId val="26085713"/>
      </c:barChart>
      <c:catAx>
        <c:axId val="763162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85713"/>
        <c:crosses val="autoZero"/>
        <c:auto val="1"/>
        <c:lblAlgn val="ctr"/>
        <c:lblOffset val="100"/>
        <c:noMultiLvlLbl val="0"/>
      </c:catAx>
      <c:valAx>
        <c:axId val="260857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3162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A586-5A18-4F76-BAAE-787AA3A8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7F7-4FB2-4B25-9CD8-764F015A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001F-18E0-491A-9407-D99D7C6E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9A7D-01B6-4010-BDB9-5BA51042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2A73-3BD1-4250-85CA-5B38AA70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940-25BD-402D-BC27-5FE7B92E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698-E683-4D93-ABE6-73CF1348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9E5F-B8E7-4756-81A6-2249BC29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1E0D-868F-4E6A-8607-68058FDC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A3A6-B415-42D2-83F1-BDFA2128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C96-E32D-4B67-8288-6369A1C8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3EE7-1659-46FF-8259-A991CFD5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F480A-A7F9-42F9-8B12-515EACC71C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