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66861"/>
        <c:axId val="5439167"/>
      </c:barChart>
      <c:catAx>
        <c:axId val="55066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9167"/>
        <c:crosses val="autoZero"/>
        <c:auto val="1"/>
        <c:lblAlgn val="ctr"/>
        <c:lblOffset val="100"/>
        <c:noMultiLvlLbl val="0"/>
      </c:catAx>
      <c:valAx>
        <c:axId val="5439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66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8D4A-51FF-4B7B-BD6E-20AFF3D9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282-415B-464C-8FBB-087D994B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9BD-B7AE-4662-90F9-AFC95632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7CD-5779-4E7E-AFA6-73C0D74D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DBF-1852-4930-8CF6-BFD721AD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3C1-72ED-4943-8728-B9BF9B23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9978-CD54-42D6-A535-2B262557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46E-E338-4C26-BE7B-9C2B3856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1AC-1E49-45DB-8ACA-42D16E45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F42C-CFDA-42F6-BAEB-96731CF1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6D9-1571-4AAA-80E4-6A316624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36C-3650-4E09-B153-E955B0C8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DD522-599D-44F5-96B8-C38A1D184B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