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24695"/>
        <c:axId val="31024819"/>
      </c:barChart>
      <c:catAx>
        <c:axId val="60024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4819"/>
        <c:crosses val="autoZero"/>
        <c:auto val="1"/>
        <c:lblAlgn val="ctr"/>
        <c:lblOffset val="100"/>
        <c:noMultiLvlLbl val="0"/>
      </c:catAx>
      <c:valAx>
        <c:axId val="31024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4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781-5AB2-4E90-B8E2-B9640EF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907-3A3D-4C8E-B857-178675D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C62-7BE3-4126-8CD4-ECF523AF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871-EC80-4748-AB48-6D84F0F4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9A7-AA8D-47FB-8200-FA406020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120-A515-4CA3-88C4-3DA75FB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246-9ABF-4946-ACAF-72C66527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774-0F33-4A61-B419-57C429F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0AA-BF08-43B9-87C1-30D8B490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B08-0438-45A2-A188-EB05277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90D-76B7-46C4-8A7B-EF83464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78D-89DD-44B6-9DFD-30A28899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ADD9E-6FA0-469C-A490-8CF2D3F14E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