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89538"/>
        <c:axId val="67316947"/>
      </c:barChart>
      <c:catAx>
        <c:axId val="83189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16947"/>
        <c:crosses val="autoZero"/>
        <c:auto val="1"/>
        <c:lblAlgn val="ctr"/>
        <c:lblOffset val="100"/>
        <c:noMultiLvlLbl val="0"/>
      </c:catAx>
      <c:valAx>
        <c:axId val="67316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89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8F5-38B3-44CE-BBD6-1D7562C7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BCD-6D36-4F1A-8739-2083F578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CCE-8421-4704-8161-3DEFBC52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D24-DDC0-4BA4-8AD7-F73ECE1D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40C-A133-4F83-861F-416FC9D1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ED6-9BC9-46BD-B57B-482ED294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F8F-3604-4D2F-B7AF-D9484DC2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27C-B44C-4F78-A445-01EDC6FA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816-7417-463C-B777-FDD1D182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B55-6FFA-4337-B0F8-2181006B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796-C726-4E63-AFEA-4C3D98A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CA6-4885-45D9-BFF8-A58007E3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7EF71-FBCC-42E8-B9CD-D61EBDC309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