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45832"/>
        <c:axId val="68769874"/>
      </c:barChart>
      <c:catAx>
        <c:axId val="523458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769874"/>
        <c:crosses val="autoZero"/>
        <c:auto val="1"/>
        <c:lblAlgn val="ctr"/>
        <c:lblOffset val="100"/>
        <c:noMultiLvlLbl val="0"/>
      </c:catAx>
      <c:valAx>
        <c:axId val="68769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458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984-5167-4B6B-AE68-A904CD09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E196-DE26-48E8-AF5A-B6DB6059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AEA-6ABC-4FE4-B12F-B786FDC7F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6106-7A25-4FFA-A715-1201E221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C6B1-6E53-4577-BF79-C23431A2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7646-15AC-4FF3-B13D-B2C4B5C6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41-B208-4C5E-B0A1-3950A664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6686-64BC-4A2E-827E-35BE770BE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A6F9-C364-4689-A528-9E77EF1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99CB-C78E-4D6E-9F1A-AF44FD82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7415-7EEB-4238-8FDE-CE61C84D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C067-865D-4CD3-B5AC-4DBC83C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7E6A38-6C95-4DE6-8221-4EE49F6B4C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