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47665"/>
        <c:axId val="14123827"/>
      </c:barChart>
      <c:catAx>
        <c:axId val="51147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23827"/>
        <c:crosses val="autoZero"/>
        <c:auto val="1"/>
        <c:lblAlgn val="ctr"/>
        <c:lblOffset val="100"/>
        <c:noMultiLvlLbl val="0"/>
      </c:catAx>
      <c:valAx>
        <c:axId val="14123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47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146-E3B0-406D-83D4-E5CE6E2B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D78-FFBC-4F9A-BDE5-8711E185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E7F-75CF-4CB1-A1B9-5F5A64F3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E83-A3F3-4579-86E7-12456F18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545-2BEF-4F6F-A586-4196345C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92B-76F7-4E03-8AD3-31AE72FA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83E-96E6-404B-BA24-D5B7766D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E25-8884-41B7-A85A-AB9638C2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BC7-CA61-4F79-A2A0-3DAC9B4E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0DF-E4BD-4B0B-8778-74E984E3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941-A093-4353-8CFA-2C1E9639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0A3-5594-4D0F-8075-D7BFFD6D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AA90C-EFC5-4BD1-A2D4-C0053DA5C2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