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86128"/>
        <c:axId val="23358592"/>
      </c:barChart>
      <c:catAx>
        <c:axId val="52186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58592"/>
        <c:crosses val="autoZero"/>
        <c:auto val="1"/>
        <c:lblAlgn val="ctr"/>
        <c:lblOffset val="100"/>
        <c:noMultiLvlLbl val="0"/>
      </c:catAx>
      <c:valAx>
        <c:axId val="23358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86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104-D6FA-4EE9-9B6F-C1053BA2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921-52B9-4859-AF7E-E13F659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D21-29FA-42FB-A53F-34804E43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790-D695-4282-B68D-D1AD65DE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AD8-1F96-4E9B-8AE5-F48A29F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587-09D7-4D8A-9F09-F47483F8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ED4-DD5A-4E09-ADD2-D13BEC2E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F0A-07CC-4425-8BF5-63750D62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890-8505-471D-A5EE-66A6C1A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E7A-A157-4A28-87A3-AB541AF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E2D-4CCA-4929-91A6-1069650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3CE-4F33-40B0-8C4D-EDB6E57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944E6-1544-46BA-B0C0-225638E2C5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