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50381"/>
        <c:axId val="93572798"/>
      </c:barChart>
      <c:catAx>
        <c:axId val="99550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2798"/>
        <c:crosses val="autoZero"/>
        <c:auto val="1"/>
        <c:lblAlgn val="ctr"/>
        <c:lblOffset val="100"/>
        <c:noMultiLvlLbl val="0"/>
      </c:catAx>
      <c:valAx>
        <c:axId val="93572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50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507-0028-4FAC-B75E-854CB0EF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33A-3E70-47BA-BA5C-D1943588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BC6-7D75-4369-B709-E5D618D2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48B-C55C-4553-B760-6E17E708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8B5-C459-4DA7-8F53-DF33D6B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033-D84E-49B2-BA64-55CC17B5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ACA-94F3-4E1C-A01E-22C87E10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941-176C-4264-BBD9-DA611D05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456-279D-4092-ABBE-F941175D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A96-6789-4C30-BF28-3CACC7BA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A20-F979-4616-B9F9-D4F85A5C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F06-EB30-4111-AD77-89E9F91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EA3D2-95EE-46C2-8498-B07AE26799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