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97839"/>
        <c:axId val="72723946"/>
      </c:barChart>
      <c:catAx>
        <c:axId val="12497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23946"/>
        <c:crosses val="autoZero"/>
        <c:auto val="1"/>
        <c:lblAlgn val="ctr"/>
        <c:lblOffset val="100"/>
        <c:noMultiLvlLbl val="0"/>
      </c:catAx>
      <c:valAx>
        <c:axId val="72723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7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1D1-D3C2-4F1E-9A08-D6AA2C1A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49A-B16E-42B7-93F9-C66E462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77E-DC11-4D3C-AAFC-6BF1102C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DAA-8EF4-4458-AC3A-25991D8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011-E799-4F64-9637-5B5A0E1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FBF-D348-4A72-8BCD-CF4E77E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5F6-7F0F-43F6-9319-BBB1D61C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D02-F485-4E8A-B031-32E7AEC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877-1D60-4B29-A872-6A919E9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CC9-3CDD-44D6-AB3B-5AE15C9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564-3740-4468-A08E-409F1E8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1AF-8B79-4F42-93E5-279A7D0D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F14FA-C266-4234-99D4-DBB300179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