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65009"/>
        <c:axId val="328654"/>
      </c:barChart>
      <c:catAx>
        <c:axId val="98265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654"/>
        <c:crosses val="autoZero"/>
        <c:auto val="1"/>
        <c:lblAlgn val="ctr"/>
        <c:lblOffset val="100"/>
        <c:noMultiLvlLbl val="0"/>
      </c:catAx>
      <c:valAx>
        <c:axId val="328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65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92B-573E-45CD-A42F-37F5F404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8AE-959B-4F30-8288-63BE0EA6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2B2-8290-454E-ACD4-0FA70798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4CF-A663-4121-B55B-3B0F9C5D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36F-E992-49CB-AED9-6D1AE408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AAE-2009-4C53-905E-4BD323F2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B68-1F29-4BDF-B742-013C4C5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CF7-AAA6-4CDE-96E1-B6523A46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B88-1E80-4A60-A30F-603ADE0C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A0B-94DC-4165-988D-D6E56BE4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340-9701-4BC1-B9EF-0879E58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C54-056D-49F8-B50D-945240F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FD633-A2F7-4405-B33F-73ADAB3835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