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07247"/>
        <c:axId val="25820949"/>
      </c:barChart>
      <c:catAx>
        <c:axId val="95807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20949"/>
        <c:crosses val="autoZero"/>
        <c:auto val="1"/>
        <c:lblAlgn val="ctr"/>
        <c:lblOffset val="100"/>
        <c:noMultiLvlLbl val="0"/>
      </c:catAx>
      <c:valAx>
        <c:axId val="25820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07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1DB-B00C-47B3-A3BE-BD4706A2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12FF-6634-42E1-8FD4-29C4798F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A97-6D29-4DF2-86E8-B01DD7CF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215-2300-46E4-98FF-2AD7993C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CAD-2147-40B6-A903-801C926F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A37-870D-4114-AD53-C3C68A61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2CE-5C57-4B02-AB06-DE507490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644-8088-4AFC-8424-9CD16B08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0B2-3B4F-4466-976C-A30313FC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2F2-A2FE-4457-96C6-7527D676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B4B-21DA-472B-AE31-9AC664D4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B80-27D2-4E4E-AA45-A9B1A08A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90339-1D7F-4982-91FD-93B80B1168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