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85089"/>
        <c:axId val="40929997"/>
      </c:barChart>
      <c:catAx>
        <c:axId val="45085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29997"/>
        <c:crosses val="autoZero"/>
        <c:auto val="1"/>
        <c:lblAlgn val="ctr"/>
        <c:lblOffset val="100"/>
        <c:noMultiLvlLbl val="0"/>
      </c:catAx>
      <c:valAx>
        <c:axId val="40929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85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B0EE-A09D-409F-BD86-6620B4FB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5CE-202C-403A-BE29-072E9585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FC3-E27D-479E-8F6C-074121B1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2CD-18E4-454F-AA71-8B8FDC76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F03-AA10-4718-A3F2-340C413F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282-D142-4B68-BFA3-105E44E0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E01F-DF09-42F8-8D83-8E274F4F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C95-5A07-455F-9F02-F7DBA9F2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15C-B4B9-43B0-A6DC-DA05BDDD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248-CC13-4A36-BC07-3653BFF5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C9D-3E23-444A-8F5E-6A5035A1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755-131E-42E2-BC5F-99A6295A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1C409-3745-4B23-BCE9-31E09FDB69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