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15992"/>
        <c:axId val="10175276"/>
      </c:barChart>
      <c:catAx>
        <c:axId val="98515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75276"/>
        <c:crosses val="autoZero"/>
        <c:auto val="1"/>
        <c:lblAlgn val="ctr"/>
        <c:lblOffset val="100"/>
        <c:noMultiLvlLbl val="0"/>
      </c:catAx>
      <c:valAx>
        <c:axId val="10175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15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D37-F7F9-48B3-8BA0-AAAAE37B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107-98CC-4776-BCB2-3483900C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C6D-C476-4DFA-A58F-DE2BE785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049-F607-475A-88B8-42428236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EBD-5AF2-48DE-A69F-9E557224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BD6-0547-4E7A-9CA7-D10B53B2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EC6-FE3D-4FC5-B41F-30D3137A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19D-D28B-4008-9854-A2BAD032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262-B499-4ACF-A2C3-6E2574B4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206-CBAD-4F73-8A30-8C424A36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A96-0D3C-4057-8E4A-D54D5AD7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FE1-FD39-4797-BD3B-A709BBF5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CEAF2-45D3-404D-9D9F-00D010F65A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