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2392"/>
        <c:axId val="83597021"/>
      </c:barChart>
      <c:catAx>
        <c:axId val="57462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97021"/>
        <c:crosses val="autoZero"/>
        <c:auto val="1"/>
        <c:lblAlgn val="ctr"/>
        <c:lblOffset val="100"/>
        <c:noMultiLvlLbl val="0"/>
      </c:catAx>
      <c:valAx>
        <c:axId val="83597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2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987-062E-417C-94D6-1B0BC35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A44-B716-4064-926B-DF9DF8B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867-E797-4620-AE54-6F2FD9CC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B75-483C-4C59-8E8B-8A58641B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703-6FFB-448D-BB18-25C724F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E2A-5166-445B-B645-EDC97EBB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3EA-31FE-4D32-A6A0-7A347A4A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70E-1040-4D33-954B-347F42D6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81A-202B-4EEF-BE40-A0D9A1F1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32A-0E47-4051-A101-7796810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754-863F-4C41-A3D4-824CBF45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652-457C-402A-9623-B8D95C9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0BD19-91C3-49C3-B3AE-8970DDEBF9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