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74533"/>
        <c:axId val="1828595"/>
      </c:barChart>
      <c:catAx>
        <c:axId val="913745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8595"/>
        <c:crosses val="autoZero"/>
        <c:auto val="1"/>
        <c:lblAlgn val="ctr"/>
        <c:lblOffset val="100"/>
        <c:noMultiLvlLbl val="0"/>
      </c:catAx>
      <c:valAx>
        <c:axId val="18285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745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7A9-B3CC-47AC-8359-0CF5E395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E0D4-5127-4C12-AFCE-B22C507D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1B3C-C3EC-4FF4-8788-A9962A16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47D-2D65-4FA4-A812-D72D72EB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83E-9F26-4FF4-A527-9F94180D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BC84-2D85-4961-A5C7-24F0465D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138-5C89-4605-82BA-8FC35F2A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B0C-B7B3-4404-99E7-29D3EA7F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E39-6658-4844-B798-852DD3A3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C6C6-6174-4D4D-9C6B-82F7AA5C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94DA-5219-457D-84F8-02AF2062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A656-7CE6-447B-8CE0-E6E83A2A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E22CC-002D-4BBE-96B3-F29DC164ED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