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47602"/>
        <c:axId val="58127164"/>
      </c:barChart>
      <c:catAx>
        <c:axId val="88047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27164"/>
        <c:crosses val="autoZero"/>
        <c:auto val="1"/>
        <c:lblAlgn val="ctr"/>
        <c:lblOffset val="100"/>
        <c:noMultiLvlLbl val="0"/>
      </c:catAx>
      <c:valAx>
        <c:axId val="581271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47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4BE3-E8AE-4AD1-83E4-55B9C0E3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F297-7AA3-4B7A-A08C-503CF98F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7D8-C91B-476B-A84A-4342493D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5E0-4B59-4029-993C-7AB16EAC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CE8-4CD1-4FC2-8002-99EF0B26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1FA-B592-4D4B-B062-76E2EE06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EB4-2D94-4380-B341-645C5072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6B4-5B8A-40DD-A0B0-63B1E521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09F-739D-4E57-92BF-462D0FA9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F5E-AFD4-40A3-BEA9-CD2DA897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71F-75A3-4BDF-8251-82E41DE4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BDD-3FBF-4B92-B036-7410CEF6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1869F-552A-43CA-8242-57981DB8D8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