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58445"/>
        <c:axId val="85431834"/>
      </c:barChart>
      <c:catAx>
        <c:axId val="14358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31834"/>
        <c:crosses val="autoZero"/>
        <c:auto val="1"/>
        <c:lblAlgn val="ctr"/>
        <c:lblOffset val="100"/>
        <c:noMultiLvlLbl val="0"/>
      </c:catAx>
      <c:valAx>
        <c:axId val="85431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58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3BA-371D-4F4E-AF2F-6ABD949F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C60-4284-4D71-BCF0-E9B4007D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D0E-E65F-40DA-8654-310FA01E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D61-3E13-4B0B-B594-58B1A72F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64C-C97D-41C4-A15B-8939E3C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8F9-7C80-4576-BD10-0A7953BE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77C-86C9-4628-8BA7-91170991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F7E-8D4F-4377-8DC7-1652486F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D38-6CCA-4D6E-9355-433C1A63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28D-1AE7-4EBC-88C9-6C29E7EF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3C8-8DB1-4194-ADC5-70678AE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072-6C97-48E7-B435-EDDAA2A0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B2241-86A4-4424-9CE5-5A5258EE35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