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78561"/>
        <c:axId val="18974126"/>
      </c:barChart>
      <c:catAx>
        <c:axId val="71078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74126"/>
        <c:crosses val="autoZero"/>
        <c:auto val="1"/>
        <c:lblAlgn val="ctr"/>
        <c:lblOffset val="100"/>
        <c:noMultiLvlLbl val="0"/>
      </c:catAx>
      <c:valAx>
        <c:axId val="18974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78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590A-9CA6-4870-B130-A510C5FC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3B3-0361-4609-9B1B-24066BEE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1AF8-2E04-4F37-92A7-CDA98F32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86DE-BE3E-477F-8EB3-A03F922B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22C-480B-49CB-B30E-2DCE1273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D1A-F67D-4368-9C27-AD5CCA8B3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8610-6F36-49F9-BDDB-E1A8CEE7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3CD0-13B1-4C77-BFAE-5D99BDEF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7D5-08AE-45FF-8476-ACD4FF4A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78F8-2511-4B82-B95E-850DBE8C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AD3-A7B8-404F-8FB1-E763911D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8D64-C467-4714-A312-26D1E54D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E0D24-8C91-4650-B7CB-03A8354A5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