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0099"/>
        <c:axId val="88917580"/>
      </c:barChart>
      <c:catAx>
        <c:axId val="52600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17580"/>
        <c:crosses val="autoZero"/>
        <c:auto val="1"/>
        <c:lblAlgn val="ctr"/>
        <c:lblOffset val="100"/>
        <c:noMultiLvlLbl val="0"/>
      </c:catAx>
      <c:valAx>
        <c:axId val="88917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00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C76-C758-4EF5-91B9-2D5C0EDC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80E-8E7D-4B47-B7FB-FD89CE01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3D0-E83A-4A14-B331-377EDF60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78D-A80A-4F5C-8C67-C3AFE79A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B8C-102E-4707-8C92-F1169FA5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B65-E591-4EA0-8F7D-E63C7039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33B-E1C8-42B6-B3B9-256343AC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905-D4E2-4FE0-A74C-95704C96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215-26FE-47E7-81A7-2C47D2D1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401-D3DF-4754-99E9-CCE6A83D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C55-6A41-4819-A6A6-C438BDC3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9F9-C2BD-49C0-A5DF-576A4D50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D9C42-B19D-4188-ABFB-14AD73150B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