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88716"/>
        <c:axId val="11507013"/>
      </c:barChart>
      <c:catAx>
        <c:axId val="61988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07013"/>
        <c:crosses val="autoZero"/>
        <c:auto val="1"/>
        <c:lblAlgn val="ctr"/>
        <c:lblOffset val="100"/>
        <c:noMultiLvlLbl val="0"/>
      </c:catAx>
      <c:valAx>
        <c:axId val="11507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88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4E4-2B4D-4538-8FDB-C453DC34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08E-513F-42B9-B0CB-F8BC2CF3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DA0-4C55-419D-9E4A-1BBA7F04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F89-81F9-4671-BE4F-DD0FF967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4F1-210C-48E0-91D0-4A45085D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1CB-F508-48B1-BE77-23FF5511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228-B38A-43E6-A517-3A60F4D6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0FE-0AB2-4FB2-A635-6AFFCB48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4F5-E016-4935-A8FA-590E7908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FE3-0B99-4A20-A5ED-B817237D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6CD-3D51-4B3D-91EF-6F327383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C98-F8E4-4DB9-9F01-ACF8A72D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147E1-E704-4BD7-A8E9-E2EA5C4A38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