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93595"/>
        <c:axId val="2254592"/>
      </c:barChart>
      <c:catAx>
        <c:axId val="83193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4592"/>
        <c:crosses val="autoZero"/>
        <c:auto val="1"/>
        <c:lblAlgn val="ctr"/>
        <c:lblOffset val="100"/>
        <c:noMultiLvlLbl val="0"/>
      </c:catAx>
      <c:valAx>
        <c:axId val="2254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93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805-E530-438A-B02A-0737577B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63E-4486-4B3D-B93B-25C73FF0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6B68-4F2C-43E9-B490-AF1D6314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012-2224-4842-B0C2-499F397F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54F5-E6D1-4A93-854C-66FCBAD6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407-7335-47CB-8549-AFFD2B71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CD1-8F8F-4BCA-BE24-A12AB891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72F-7E79-4B2C-B775-BD8B8D01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C74-5FA7-43BA-9F81-4B875F62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E40-D236-4215-AC72-BBA333DE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BCA-DD61-4925-BC84-7B50256F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E808-B452-424D-82E9-132F8A14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F0805-666B-4AEE-B674-37E361B1D0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