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62325"/>
        <c:axId val="53016699"/>
      </c:barChart>
      <c:catAx>
        <c:axId val="97162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16699"/>
        <c:crosses val="autoZero"/>
        <c:auto val="1"/>
        <c:lblAlgn val="ctr"/>
        <c:lblOffset val="100"/>
        <c:noMultiLvlLbl val="0"/>
      </c:catAx>
      <c:valAx>
        <c:axId val="53016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2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EC9-5FE9-4E61-A2F9-3B8C844C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C8F-24D7-44CC-9556-41D2CE7B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160-4871-4E1C-B795-59AED3D4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D0E-405E-4C54-8627-7F3380A5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DD7-D2B1-4B2A-87D4-67B3DBDB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1FE-52B6-41BC-8C56-52082DE2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32B-DACD-4797-8500-DE3C9D6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1BD-A091-4C7F-B249-810932F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E74-A848-4BDD-B489-DE77FFA4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D81-8DD1-4DB2-9DA3-0FA831C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C37-7DD3-491C-BD4D-673DD1F5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0D3-D1B8-44A8-8453-A89A33A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15AC7-2F2A-4913-8B3D-E04189AFCC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