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94116"/>
        <c:axId val="51490023"/>
      </c:barChart>
      <c:catAx>
        <c:axId val="68494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0023"/>
        <c:crosses val="autoZero"/>
        <c:auto val="1"/>
        <c:lblAlgn val="ctr"/>
        <c:lblOffset val="100"/>
        <c:noMultiLvlLbl val="0"/>
      </c:catAx>
      <c:valAx>
        <c:axId val="51490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4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447-FA7D-4A5A-B926-29565FB8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7CB-155C-4CFC-B6D3-3D7959DF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CFC-DF18-426A-8164-7D2A1429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00D-21FE-403E-BD77-914068C5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6EE-A179-45D9-B994-B867548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495-999F-4DA5-914C-654774C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B83-4A0F-4FB2-ABCF-36B5F77D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DDB-8E6F-4ACD-BB3E-61E72180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38B-6E24-4E9B-927C-667C12A4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3DE-3494-4220-99C2-22E52C9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3E0-31E6-4D05-80F1-D07C774C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2C5-910D-4019-8913-10AAC168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D476E-57EE-42AC-99B6-28E35AF5FF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