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20531"/>
        <c:axId val="54216081"/>
      </c:barChart>
      <c:catAx>
        <c:axId val="660205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16081"/>
        <c:crosses val="autoZero"/>
        <c:auto val="1"/>
        <c:lblAlgn val="ctr"/>
        <c:lblOffset val="100"/>
        <c:noMultiLvlLbl val="0"/>
      </c:catAx>
      <c:valAx>
        <c:axId val="542160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205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499-8574-4288-ACB1-CADDBDAB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740-3623-4BA2-A86A-3ACB90FC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5D71-7224-4180-9698-7EBC3819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A6F5-70F7-4B59-85C6-365F2F71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39D4-C894-4778-B8FC-99387F25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1D2-04E2-48B4-B8FD-D1A55597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ED9-1422-459D-AE1A-1E5F5C1C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50C3-3FE8-4CBA-BDE9-20E87C72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F9E1-2E12-4FFD-963B-2ACAC213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537-C2D4-4FA9-B8EC-9B274971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DEE-743D-402E-BB93-3282885C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207-77EC-496E-971D-C4678AFD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74854-35C1-418C-B30C-628272E0D7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