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14364"/>
        <c:axId val="70634805"/>
      </c:barChart>
      <c:catAx>
        <c:axId val="44914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34805"/>
        <c:crosses val="autoZero"/>
        <c:auto val="1"/>
        <c:lblAlgn val="ctr"/>
        <c:lblOffset val="100"/>
        <c:noMultiLvlLbl val="0"/>
      </c:catAx>
      <c:valAx>
        <c:axId val="70634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14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220-64C4-4D7E-956D-2A131856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511-863E-4211-837D-61FDBF84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CC2-C6DA-4AF2-A3A5-4527EE79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55E-75B8-4848-BF31-4AF85AC1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16A-1DE9-48DF-9E68-8A033053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46F-FAD4-48E5-B050-30AC9C0C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B49-5245-4538-B0BF-D29E8D6E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60E-6E70-4838-93CB-79B525CF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D03-DB9B-41A2-BC48-36F2F963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50C-BCD6-4356-888C-5821FDE6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D89-6712-4C4A-92D0-51A2F573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4D9-34D1-4F57-B6EE-E9048AD9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43396-EF57-4983-9B04-A97A4CBC1E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