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02677"/>
        <c:axId val="94897950"/>
      </c:barChart>
      <c:catAx>
        <c:axId val="93602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97950"/>
        <c:crosses val="autoZero"/>
        <c:auto val="1"/>
        <c:lblAlgn val="ctr"/>
        <c:lblOffset val="100"/>
        <c:noMultiLvlLbl val="0"/>
      </c:catAx>
      <c:valAx>
        <c:axId val="94897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02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18A-FBA7-426B-8CED-5374E166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F9B-F683-4030-B85C-7EB15BA0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6D8-A0D8-46C1-892C-856A2872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F6D-7169-41EC-946D-B73CB479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056-C3C4-4AD5-A58A-F017C69C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718-621A-4AE5-A227-59680737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74BE-2851-4743-93F5-6CF2E117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073-F695-44FD-B14C-786D3E35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6F9-F88F-4507-A363-0DE59368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811-E785-4A9D-A134-167583DC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FAD-5504-4799-A58E-09940ACD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8C6-2869-4DE6-AC1A-38260098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F1F6A-1719-470D-AF11-55DD21F6DA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