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64411"/>
        <c:axId val="70519206"/>
      </c:barChart>
      <c:catAx>
        <c:axId val="54664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19206"/>
        <c:crosses val="autoZero"/>
        <c:auto val="1"/>
        <c:lblAlgn val="ctr"/>
        <c:lblOffset val="100"/>
        <c:noMultiLvlLbl val="0"/>
      </c:catAx>
      <c:valAx>
        <c:axId val="70519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4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0A0-BAF4-4F6E-9BA9-C258DD48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C3B-E4B3-4806-B14C-E70F19D9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010-6A10-4D47-B923-723799BE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FE7-5F9F-49CE-A21C-09D366B3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9CD-E675-4764-90BC-4131B331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88A-C5B1-419F-A90A-01F8385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4F0-8E2E-48C4-BE73-A63B29CB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250-75F9-4B0A-ADCF-C8D9AE2D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16B-93C7-4F1A-8C47-60D79A3F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8C5-8EA9-4EA4-B286-EBEF2F4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E58-952A-415F-84D9-470CEAC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0B8-41F5-4123-85BF-8D06F0D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BA17A-AC42-4A2E-A504-2C7B106B4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