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10358"/>
        <c:axId val="85741819"/>
      </c:barChart>
      <c:catAx>
        <c:axId val="76210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41819"/>
        <c:crosses val="autoZero"/>
        <c:auto val="1"/>
        <c:lblAlgn val="ctr"/>
        <c:lblOffset val="100"/>
        <c:noMultiLvlLbl val="0"/>
      </c:catAx>
      <c:valAx>
        <c:axId val="85741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10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74F-2ADA-4E18-9540-37F26A86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C69-BBED-4CE9-B409-C094F7A6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8B3-B131-454F-A7C7-2789019C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FE8-6B55-4ECC-933D-6F8AE9EA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42B-931B-4311-A2C6-3E5D259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FFC-D1C6-4048-BFCF-31A43A9D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FB5-68F4-4874-9A41-4726D1E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95D-F190-4B22-BF09-D6147D8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D61-0ACE-4E19-9D5A-207553D8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ED0-0150-49F3-89B8-08B0BB8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914-8482-45EB-B42D-B77E62E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721-C29F-4838-801D-E9C7443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661E6-AFBD-40E3-ABBE-9AA0D84D9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