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80730"/>
        <c:axId val="479742"/>
      </c:barChart>
      <c:catAx>
        <c:axId val="54680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742"/>
        <c:crosses val="autoZero"/>
        <c:auto val="1"/>
        <c:lblAlgn val="ctr"/>
        <c:lblOffset val="100"/>
        <c:noMultiLvlLbl val="0"/>
      </c:catAx>
      <c:valAx>
        <c:axId val="479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0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992-CC8F-447B-B75D-B0E84C39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EA1-3884-44C8-8DB3-26475988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72F-910F-4950-BE3B-BABDD45E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0E4-C2DE-46B0-A0B8-4951FE1D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6AC-7621-4DFD-B43C-E7BB46F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6BA-D569-4A0F-BA65-8F81620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F70-5554-4B1F-8599-5AA3676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572-16A9-47D3-A240-3AA09C0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A9E-F6D0-44D8-8FD9-19E25F2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D5-93B6-4EEF-8BA2-D6D25ABD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1BE-FDE7-447D-8112-046D677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8CA-E807-4072-B8AC-F11192D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A508C-5CAF-4A76-94A3-CEB5A758D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