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0756"/>
        <c:axId val="8426862"/>
      </c:barChart>
      <c:catAx>
        <c:axId val="42380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862"/>
        <c:crosses val="autoZero"/>
        <c:auto val="1"/>
        <c:lblAlgn val="ctr"/>
        <c:lblOffset val="100"/>
        <c:noMultiLvlLbl val="0"/>
      </c:catAx>
      <c:valAx>
        <c:axId val="8426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0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3BB-FC6A-4985-B700-3087F3E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691-E1B8-45A9-8B5B-3F8669C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825-FFB9-4E43-A3BC-D566FEFE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559-A3F3-40C3-92F9-6838F246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DA8-8918-4D08-8D1B-729E81A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5EE-41A6-41C0-8601-CFEED3E9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1B3-C367-4673-9FB5-9F527CF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F2D-0A45-4D4A-8EC1-8D826C1B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777-A747-41CF-87EC-23ACDB0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EE0-8FCE-4198-8354-8902AB8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170-4528-40EC-80EA-A4DB1FC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8C5-6D39-495E-A4EE-1005A7E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73E4-DF54-4804-85B1-6063A67B9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