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2696696"/>
        <c:axId val="83576725"/>
      </c:barChart>
      <c:catAx>
        <c:axId val="4269669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576725"/>
        <c:crosses val="autoZero"/>
        <c:auto val="1"/>
        <c:lblAlgn val="ctr"/>
        <c:lblOffset val="100"/>
        <c:noMultiLvlLbl val="0"/>
      </c:catAx>
      <c:valAx>
        <c:axId val="8357672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69669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B947-C7B4-4873-8BE0-B3355BBA5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36EE-8977-4D24-B76F-B990BD96A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D2C5-F0C2-4945-A24D-3913F412C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3F09-2FE5-4257-A5B7-4CEC906D8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3DF4-A510-47E2-9ED6-4D0D8AE2B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6F80-6934-4C6F-9DAA-18FC0EEE2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E69A-3181-41BE-BF3F-B57146423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F534-B704-4B9D-96DE-454A74A85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C71E-8039-4BE9-BE51-6843FA5FF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16E7-7881-4CD4-BD97-C30BF186F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3F1A-2A0B-4443-B10B-318715ED4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B794-77C1-4CF8-A778-7B9EF65F6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936F82-667B-42CA-8E3F-D59FBBF129D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