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41581"/>
        <c:axId val="52364462"/>
      </c:barChart>
      <c:catAx>
        <c:axId val="37141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64462"/>
        <c:crosses val="autoZero"/>
        <c:auto val="1"/>
        <c:lblAlgn val="ctr"/>
        <c:lblOffset val="100"/>
        <c:noMultiLvlLbl val="0"/>
      </c:catAx>
      <c:valAx>
        <c:axId val="52364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1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452-F331-4F32-8108-2CF64030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2C2-6184-43DD-96B9-F961BE9F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033-014B-41AB-AA75-E74F4D46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4DB-F49E-479E-8E42-2378F92F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E4F-AC60-41A1-8CDC-D6634276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1FB-BBEB-41EE-993F-A3A1F631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5FC-7DAC-4999-A6B5-5FC0C414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DFD-0728-4418-8769-C07D37B7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64E-26EA-4912-A86B-377DE0E4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B57-3272-44EA-BDEB-FEFDCE31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B16-EFDB-4C32-B397-10E0DE9A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5B8-C781-4851-BB55-8119624E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B940E-36D3-404F-B092-49334D91A7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