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85451"/>
        <c:axId val="36972545"/>
      </c:barChart>
      <c:catAx>
        <c:axId val="34685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72545"/>
        <c:crosses val="autoZero"/>
        <c:auto val="1"/>
        <c:lblAlgn val="ctr"/>
        <c:lblOffset val="100"/>
        <c:noMultiLvlLbl val="0"/>
      </c:catAx>
      <c:valAx>
        <c:axId val="36972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85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B7B-E141-4FDA-B43D-49D985C3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C4C-7D20-4A70-9162-46C06591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234-BB49-4A0E-AD78-F6BFEEAE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36F-5A75-4981-A18C-2AE32B60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2E2-5A33-4ED0-BE51-C5D73B33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3A0-69E1-4A55-8B85-278195F3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977-31CF-4545-B04D-E1138B4C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DED-D484-4573-9FC4-29A60EAC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C4C-948C-4796-8B7D-D0A59327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55D-635E-452A-B08D-28052AE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7D8-7F97-48B7-A2DE-BEBAEC1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77D-9117-44AD-82D7-2805107E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AFF95-E0C6-4CA8-A4FE-8E7145F646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