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32779"/>
        <c:axId val="80436947"/>
      </c:barChart>
      <c:catAx>
        <c:axId val="40232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36947"/>
        <c:crosses val="autoZero"/>
        <c:auto val="1"/>
        <c:lblAlgn val="ctr"/>
        <c:lblOffset val="100"/>
        <c:noMultiLvlLbl val="0"/>
      </c:catAx>
      <c:valAx>
        <c:axId val="80436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32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5E8-BE47-4D95-8FE4-28A9BFB3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356-0D15-43B7-A00B-D10EF427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721-A9A5-4749-9838-04C69974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2DC-4802-4FDD-B3E2-A9B2BB66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740-AFAA-4823-8110-74D999AA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ED1-CB04-47A5-A2D5-330C1FB1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683-F95A-4A4D-9A8E-ADE7DAAA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8B1-8FD2-49DD-9399-B2305A7D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C6E-F36F-41B7-8265-282F8E74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73B-36C0-4AE0-BFEA-AC28F8C6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BED-F7D9-489C-A7FA-AEE5BD0C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1C1-5838-4F31-B337-9A35A2A4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5400D-18D2-4BE5-87B9-D6DF653329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