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61137"/>
        <c:axId val="65151078"/>
      </c:barChart>
      <c:catAx>
        <c:axId val="87961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1078"/>
        <c:crosses val="autoZero"/>
        <c:auto val="1"/>
        <c:lblAlgn val="ctr"/>
        <c:lblOffset val="100"/>
        <c:noMultiLvlLbl val="0"/>
      </c:catAx>
      <c:valAx>
        <c:axId val="65151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61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503-6EEB-48FE-B15A-F91D76E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249-1E0D-4D9F-915E-459991D6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DF7-8550-4FCD-BDFC-EFFC6C1B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75B-D75D-4E29-B4FB-1855A08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817-AD97-4D38-847F-25A8CC0C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B7B-BC04-49B2-89F6-53F37A9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431-C642-46B5-BBBE-5173BB7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F62-AC39-4FB8-81CD-51E67F5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032-4FE8-4761-ACEE-77F45A9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D48-2033-48FB-AD57-C4CD197F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730-51B8-4DE6-A8E5-6584BAB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0BE-C17F-49F0-A135-65BFE6DB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007F2-671C-403E-825A-3BCD0077D9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