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649145"/>
        <c:axId val="73913560"/>
      </c:barChart>
      <c:catAx>
        <c:axId val="646491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13560"/>
        <c:crosses val="autoZero"/>
        <c:auto val="1"/>
        <c:lblAlgn val="ctr"/>
        <c:lblOffset val="100"/>
        <c:noMultiLvlLbl val="0"/>
      </c:catAx>
      <c:valAx>
        <c:axId val="739135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491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16A8-8D1C-43E4-936D-49F608E17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AA0B-937B-4833-AF5F-27233F2B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99E2-412A-435A-9AA8-872C7366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9CCA-424E-40B0-B83B-35A9CEA2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BF6D-B726-4058-8268-078D00AD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7E7E-705A-4F69-9BB9-18F7398C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225B-AC61-4D48-BC9A-DEBEA5E6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434D-F4B5-41D0-94D1-6C0833F6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6BFB-F885-4912-8F3E-3125BC1F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12BE-4364-41CA-B162-7DB4722F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5AC9-93FA-4D59-B9E9-E47911E4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E39D-6012-4AF6-857C-FD4953BA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D0583-0C23-4BE7-B212-69E6C13813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