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3E52B0-A8B3-47B0-ABAE-123AD1961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65440" cy="87012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17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3693960"/>
              <a:ext cx="1908360" cy="1908360"/>
              <a:chOff x="0" y="3693960"/>
              <a:chExt cx="1908360" cy="19083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380052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1560" y="36939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320" y="44989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 txBox="1"/>
          <p:nvPr/>
        </p:nvSpPr>
        <p:spPr>
          <a:xfrm>
            <a:off x="99072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 -  On the Net We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3962520"/>
            <a:ext cx="68580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iedottamisen rinnakkaine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62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84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- organisaatio ja rak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on lionien kansainvälinen palveluverkko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LionNetin hierar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nen taso - LionNe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nen taso -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Finland - district 107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LC Espoo / 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   www.funet.fi/~siiss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erustie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ukana on nyt n. 50 kansallista ja osavaltiotason LionNet-palvelusolmua (no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kejä noin 480:ään eri lionien Internet-palvelu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Internationalin osoite on www.lion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nen t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sella tasolla vain yksi noodi,      esim.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sen tason toimij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ode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- työryh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en Webmast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iir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perusinformaatio ja hall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top ten -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lub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lehti ja PK -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lub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erusinformaatio ja virkaili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arhaat 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otisiv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lehti ja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sikertomus t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henkilö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lla lioneilla on jo omia henkilökohtaisia kotisiv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äihin pääsee klubin kotisivujen kautta,   jos klubit ja jäsenet itse halua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Internet - Intran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05120"/>
            <a:ext cx="38098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- julkinen, kaikille avoin 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ranet - Internetin  sisäiseen käyttöön suljettu osa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ieti mikä tieto menee kenel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in käyttäjiä on paljon - miljoona viikoittaista käyttäjää Pohjoism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 tuntee Internetin myös liiketoimintansa ka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rinomainen vuorovaikutteinen tiedonvälityska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ike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arrastus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sen järjestön yhteydenpid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vaihtoehtoinen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tasaisin tieto löytyy Internet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erinteisen median merkitys ei vä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tarjo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ihtoeh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rovaikutte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reaaliaika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16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38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i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4114800"/>
            <a:ext cx="67057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it kansainvälisinä sillanrakentaj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842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76520"/>
            <a:ext cx="80010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ammikuu: Suomesta Internetin 5. l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u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LionNet Finland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ensiesittely Kokkolan VK: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kansainvälisen LionNet-verkon a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76520"/>
            <a:ext cx="815328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Haminan VK maail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nsimmäisenä lions-kokouksena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Suomen LionNet-työryhmä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Suomen lionien sähköposti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rraskuu: LionNet International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76520"/>
            <a:ext cx="838188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aliskuu: KVN vakinaistaa Su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-työryhmän osaksi tiedotustoimikun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Suomen piirit nimeävät 1. Inter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järjestelmällinen Internet-koulu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loite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676520"/>
            <a:ext cx="838188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Sun lahjoittaa LionNetille o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inkon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Porin VK:ssa näyttävä Lion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in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Europa Foru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onNet-työryhmä</dc:creator>
  <dc:description/>
  <dc:language>en-US</dc:language>
  <cp:lastModifiedBy>Ilkka Siissalo</cp:lastModifiedBy>
  <cp:revision>0</cp:revision>
  <dc:subject/>
  <dc:title>LionNet-esittely</dc:title>
</cp:coreProperties>
</file>