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66"/>
              </a:solidFill>
              <a:latin typeface="Times New Roman"/>
            </a:endParaRPr>
          </a:p>
        </p:txBody>
      </p:sp>
      <p:sp>
        <p:nvSpPr>
          <p:cNvPr id="57" name="PlaceHolder 1"/>
          <p:cNvSpPr>
            <a:spLocks noGrp="1"/>
          </p:cNvSpPr>
          <p:nvPr>
            <p:ph type="hdr"/>
          </p:nvPr>
        </p:nvSpPr>
        <p:spPr>
          <a:xfrm>
            <a:off x="-1800" y="-1800"/>
            <a:ext cx="2917800" cy="49356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8" name="PlaceHolder 2"/>
          <p:cNvSpPr>
            <a:spLocks noGrp="1"/>
          </p:cNvSpPr>
          <p:nvPr>
            <p:ph type="dt" idx="2"/>
          </p:nvPr>
        </p:nvSpPr>
        <p:spPr>
          <a:xfrm>
            <a:off x="3814560" y="-1800"/>
            <a:ext cx="2917800" cy="49356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 name="PlaceHolder 3"/>
          <p:cNvSpPr>
            <a:spLocks noGrp="1"/>
          </p:cNvSpPr>
          <p:nvPr>
            <p:ph type="ftr" idx="3"/>
          </p:nvPr>
        </p:nvSpPr>
        <p:spPr>
          <a:xfrm>
            <a:off x="-1800" y="9356400"/>
            <a:ext cx="2917800" cy="49356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 name="PlaceHolder 4"/>
          <p:cNvSpPr>
            <a:spLocks noGrp="1"/>
          </p:cNvSpPr>
          <p:nvPr>
            <p:ph type="sldNum" idx="4"/>
          </p:nvPr>
        </p:nvSpPr>
        <p:spPr>
          <a:xfrm>
            <a:off x="3814560" y="9356400"/>
            <a:ext cx="2917800" cy="49356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D0258CE-CBC8-46D2-AF41-386AF423B22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1" name="PlaceHolder 5"/>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6"/>
          <p:cNvSpPr>
            <a:spLocks noGrp="1"/>
          </p:cNvSpPr>
          <p:nvPr>
            <p:ph type="sldImg"/>
          </p:nvPr>
        </p:nvSpPr>
        <p:spPr>
          <a:xfrm>
            <a:off x="909360" y="744480"/>
            <a:ext cx="4911480" cy="3681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lick to move the slide</a:t>
            </a:r>
            <a:endParaRPr b="1" lang="en-US" sz="4400" spc="-1" strike="noStrike">
              <a:solidFill>
                <a:srgbClr val="ffffff"/>
              </a:solidFill>
              <a:latin typeface="Goudy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896760" y="4677840"/>
            <a:ext cx="5011920" cy="484380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y name is Ilkka Siissalo. May I introduce myself shortl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urrently I work as head of Internet and VOS system production of Telecom Finland, which is the biggest commercial Internet Service Provider in Finland.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y background is in being a researcher (biochemist), after which I’ve been responsible for the computer facilities of two  research institutes, Technology Center of Cultor Ltd. And Alko Ltd. Research Laboratories. Later I was manager of laboratory services at Alko Ltd and for the last two years manager of network services at CSC - Center for Scientific Computing, the ministry of education owned national supercomputing center and Finnish University and Research Network FUNET’s operator. I’ve been highly involved with the Internet since early 1991, at which time my group connected Alko Ltd.’s laboratories to the Internet among the very first commercial companies in Finland. In December last year I was invited to become production manager of Telecom Finland, the biggest commercial ISP in Fin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January 1995 I was only the fifth lions member in the world to publish lions related material on the Internet, an event which led later to the establishing of what is today called LionNet Finland, the national Internet service site of Lions MD 107. I am co-founder on the international LionNet and today LionNet International’s Administrator for Europe, Middle East and Africa</a:t>
            </a:r>
            <a:endParaRPr b="0" lang="en-US" sz="1200" spc="-1" strike="noStrike">
              <a:solidFill>
                <a:srgbClr val="000000"/>
              </a:solidFill>
              <a:latin typeface="Times New Roman"/>
            </a:endParaRPr>
          </a:p>
        </p:txBody>
      </p:sp>
      <p:sp>
        <p:nvSpPr>
          <p:cNvPr id="253" name="PlaceHolder 2"/>
          <p:cNvSpPr>
            <a:spLocks noGrp="1"/>
          </p:cNvSpPr>
          <p:nvPr>
            <p:ph type="sldImg"/>
          </p:nvPr>
        </p:nvSpPr>
        <p:spPr>
          <a:xfrm>
            <a:off x="909720" y="744480"/>
            <a:ext cx="4911480" cy="36813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09720" y="744480"/>
            <a:ext cx="4911480" cy="3681360"/>
          </a:xfrm>
          <a:prstGeom prst="rect">
            <a:avLst/>
          </a:prstGeom>
          <a:ln w="0">
            <a:noFill/>
          </a:ln>
        </p:spPr>
      </p:sp>
      <p:sp>
        <p:nvSpPr>
          <p:cNvPr id="27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n the fu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casting conferences online has already been a routine habit for computer conferences a long time and will be routine for lions in 2-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forms are not necessarily needed. They are there for clubs that want to use them but a proportion of clubs prefer to send the data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3 years we will not anymore need district Internet councils or specialists to help people to use the net. We do not have specialists to help people use the TV, telephone or fax. Editors and writers are still needed though, and that need is getting bigger. Everybody should be able to publish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5-6 years the TV and internet integration is widespread and small handheld devices that combine todays GSM phones, electronic calendars and e-mail and web workstations are in virtually every businessman’s pocket just like the GSM phone is today. All clubs have at least somebody online. Paper forms are still used, but the forms are copied from the net and printed at ho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09720" y="744480"/>
            <a:ext cx="4911480" cy="3681360"/>
          </a:xfrm>
          <a:prstGeom prst="rect">
            <a:avLst/>
          </a:prstGeom>
          <a:ln w="0">
            <a:noFill/>
          </a:ln>
        </p:spPr>
      </p:sp>
      <p:sp>
        <p:nvSpPr>
          <p:cNvPr id="27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o is your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 LionNet can at the same time be a forum for discussions of small internal working groups, district cabinets etc. But it is also a medium for the general public. Whatever you put on the web can be viewed by any one of about 120 million people. Closed “intranets”, closed user groups, discussion forums and closed websites are easy to set up but it needs thinking what to put 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is another question. We started by publishing mostly in Finnish and what we thought we were doing was to try to get more members from nearby. There were just a few pages in English, but when feedback started flowing in we got letters from all over the world: South America, South Africa, New Zealand, USA, Canada. But none from closer than Antwer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LionNet Finland site has been primarily English spaking with some local material in Finnish and later also in Swed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is the language of the network. There’s no way around the fac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09720" y="744480"/>
            <a:ext cx="4911480" cy="3681360"/>
          </a:xfrm>
          <a:prstGeom prst="rect">
            <a:avLst/>
          </a:prstGeom>
          <a:ln w="0">
            <a:noFill/>
          </a:ln>
        </p:spPr>
      </p:sp>
      <p:sp>
        <p:nvSpPr>
          <p:cNvPr id="27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have fears that we should not be using this modern technology because our lions fellows in less developed countries could not do the same. Mostly these fears are completely unfounded. Almost all countries on earth have Internet connectivity. Where there is a decent telephone line you can get it and the price does not have to be terrible, not even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ervices of the less developed countries do not have to reside in those countries themselves. It’s enough when the people are who create the pages. LionNet Uganda was built by one Finn and one Californian helping a young Ugandan leo whose father is on the lions cabinet. The pages come to the readers from California. But nobody will have to kno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reas where decent phone lines do not exist there are other alternatives. In Palestine cordless local networks have been extensively used. GSM phones can carry written static text but are mainly only suitable for cities. Cable TV networks can be used and even sending modulated signal on regular power outlet networks is used. In Kenya the biggest problem is how to get electricity, so people use bulletin boards and radio transmission. These ways are more expensive butit is also tremendously expensive to build telecommunications infrastructure in areas where it didn’t exist. Some years back my group was involved in helping the Petrozavodsk university in Russia to get online. 9600 bps speed was all we could do, same as the speed of just one GSM phone for a large univers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09720" y="744480"/>
            <a:ext cx="4911480" cy="3681360"/>
          </a:xfrm>
          <a:prstGeom prst="rect">
            <a:avLst/>
          </a:prstGeom>
          <a:ln w="0">
            <a:noFill/>
          </a:ln>
        </p:spPr>
      </p:sp>
      <p:sp>
        <p:nvSpPr>
          <p:cNvPr id="27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ociety International connectivity map is turning more and more blue month by month. Allmost all countries in the world are connected to the Internet (shown in blue). Some few third world countries have only e-mail connectivity through systems that are not constantly connected (green). Only a handful of countries (yellow) are totally outside and in these cases it is most often due to the political instability of the country. These countries include Libya, Iraq, Yemen, Burm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 map does not show is how large a proportion of the citizens have the possibility to use the net. This is measured by the figure “internet hosts per capita”. No. 1 in the world is Finland where about 20% of the population have used the net. Iceland is no 2 with Norway and USA struggling for the third price. The figure for USA is less than half that of Finland. USA used to be world leader in Internetting only some four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peaking, countries with highly developed infrastructure AND free competition in the telecommunication sector that presses street prices to near production costs score highest. In southern Europe telecom monopolies charge tremendously high prices that keeps the connectivity figure low.</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09720" y="744480"/>
            <a:ext cx="4911480" cy="3681360"/>
          </a:xfrm>
          <a:prstGeom prst="rect">
            <a:avLst/>
          </a:prstGeom>
          <a:ln w="0">
            <a:noFill/>
          </a:ln>
        </p:spPr>
      </p:sp>
      <p:sp>
        <p:nvSpPr>
          <p:cNvPr id="27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REMENDOUS urgency in setting up the infrastructure for the Lions Internet righ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a look at how many clubs are today on the Internet the figures are still surpricingly low. In the whole world there are just about 630 sites online, whereas the actual number of lions clubs is manyfold higher. Today up to 15 clubs are joining the net each week but looking back how the figure has been rising it is easy to anticipate that in about half a year this will be 10 to 20 new clubs each and every day. This is a tremendous rush. There is no way that the few people who get paid salaries at lions offices throughout the world would have the time or competence to help all these newcomers, answer their questions, make links to their sites to bind them up to a comprehensible whole and guide them to the do’s and do not’s of getting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andle all this, a well organized, hierachical structure of voluntary lions members with expert knowledge is </a:t>
            </a:r>
            <a:r>
              <a:rPr b="0" lang="en-US" sz="1200" spc="-1" strike="noStrike" u="sng">
                <a:solidFill>
                  <a:srgbClr val="000000"/>
                </a:solidFill>
                <a:uFillTx/>
                <a:latin typeface="Times New Roman"/>
              </a:rPr>
              <a:t>absolutely necessary</a:t>
            </a:r>
            <a:r>
              <a:rPr b="0" lang="en-US" sz="1200" spc="-1" strike="noStrike">
                <a:solidFill>
                  <a:srgbClr val="000000"/>
                </a:solidFill>
                <a:latin typeface="Times New Roman"/>
              </a:rPr>
              <a:t> to create and there is a tremendous hurry with all this. We need international guidance and cooperation, national level guidance and rules, district level people who can go and help the newcomers on the spot and global level players who specialize in certain fields, for example youth exchange, Lions Quest, Sight conservation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09720" y="744480"/>
            <a:ext cx="4911480" cy="3681360"/>
          </a:xfrm>
          <a:prstGeom prst="rect">
            <a:avLst/>
          </a:prstGeom>
          <a:ln w="0">
            <a:noFill/>
          </a:ln>
        </p:spPr>
      </p:sp>
      <p:sp>
        <p:nvSpPr>
          <p:cNvPr id="28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ges are used !  LionNet Finland scored monthly about 4500 “read” events (=somebody opens some one of the pages) already in early 1996 and at its peak when LionNet Finland was the busiest lions internet service on earth we had about 11 500 read events per month. That is a lot for a hobby site, although it’s virtually nothing in comparison with CNN news, FUNET archive etc. The biggest sites score well over million reads a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resent day international level main site, LionNet International is today scoring between 21 000 and 26 000 reads per month. The figure is steadily 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ice to publish texts knowing that thousands of people actively come to read th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to build the structure for the Lions Interne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our answer that has been developed “on the fly”,during about 2,5 yea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o be able to distinguish from the mass we need a “brand”  and we need clear organizational hierarchy which gives us clear paths to find all Lions services from the vast Internet</a:t>
            </a:r>
            <a:endParaRPr b="0" lang="en-US" sz="1200" spc="-1" strike="noStrike">
              <a:solidFill>
                <a:srgbClr val="000000"/>
              </a:solidFill>
              <a:latin typeface="Times New Roman"/>
            </a:endParaRPr>
          </a:p>
        </p:txBody>
      </p:sp>
      <p:sp>
        <p:nvSpPr>
          <p:cNvPr id="283" name="PlaceHolder 2"/>
          <p:cNvSpPr>
            <a:spLocks noGrp="1"/>
          </p:cNvSpPr>
          <p:nvPr>
            <p:ph type="sldImg"/>
          </p:nvPr>
        </p:nvSpPr>
        <p:spPr>
          <a:xfrm>
            <a:off x="909720" y="744480"/>
            <a:ext cx="4911480" cy="36813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 have several layers. The uppermost is our international main service node, “LionNet International”. It is like the Lions directory book, the site from which all other sites can be found. LionNet International can be found from europe.lionnet.com or www.lionnet.c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onNet International is ahndled by a group of 6 members comprising the LionNet International Administrators group</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ext is the national (/ state / province / multiple district level). We have 57 national / state service sites that are called LionNet nodes that act as hubs to clubs and districts in their own countries and tell about the lionism in that country. National sites are run by members called “national nodemasters”. In several countries there are also MD councils or working groups to help the nodemast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trict and club websites are linked to the national LionNet nodes and listed on the international leve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inland was the first country to nominate a district Internet chairman to each of its 14 districts to help the clubs to get start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Personal homepages for individual members are not listed on the LionNet but many clubs have links to the homepages of their members</a:t>
            </a:r>
            <a:endParaRPr b="0" lang="en-US" sz="1200" spc="-1" strike="noStrike">
              <a:solidFill>
                <a:srgbClr val="000000"/>
              </a:solidFill>
              <a:latin typeface="Times New Roman"/>
            </a:endParaRPr>
          </a:p>
        </p:txBody>
      </p:sp>
      <p:sp>
        <p:nvSpPr>
          <p:cNvPr id="285" name="PlaceHolder 2"/>
          <p:cNvSpPr>
            <a:spLocks noGrp="1"/>
          </p:cNvSpPr>
          <p:nvPr>
            <p:ph type="sldImg"/>
          </p:nvPr>
        </p:nvSpPr>
        <p:spPr>
          <a:xfrm>
            <a:off x="909720" y="744480"/>
            <a:ext cx="4911480" cy="36813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the front page of LionNet International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ww.lionnet.com     or        europe.lionnet.c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onNet International lists all clubs and districts in all countries that are online. In addition to that there are extensive lists of links to online events, lions programs and special activities and there is also an extensive section called “webpage help” to help newcomers to set up their first pages on the Intern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ational Administrators a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lkka Siissalo,  Fin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b Willis, Canad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Vera Delnon, Switzer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Jean-Paul Hepp, Belgiu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drew Connor, Australi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oëlle Neuwirth, USA</a:t>
            </a:r>
            <a:endParaRPr b="0" lang="en-US" sz="1200" spc="-1" strike="noStrike">
              <a:solidFill>
                <a:srgbClr val="000000"/>
              </a:solidFill>
              <a:latin typeface="Times New Roman"/>
            </a:endParaRPr>
          </a:p>
        </p:txBody>
      </p:sp>
      <p:sp>
        <p:nvSpPr>
          <p:cNvPr id="287" name="PlaceHolder 2"/>
          <p:cNvSpPr>
            <a:spLocks noGrp="1"/>
          </p:cNvSpPr>
          <p:nvPr>
            <p:ph type="sldImg"/>
          </p:nvPr>
        </p:nvSpPr>
        <p:spPr>
          <a:xfrm>
            <a:off x="909720" y="744480"/>
            <a:ext cx="4911480" cy="36813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will the Internet change the way the Lions clubs work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asically the net is just one more means of communication. It doesn’t cause a revolution. The clubs are still the most important working units. But what the net will do when used more extensively is to quicken the pace of the work and make physical distances obsolete. Clubs do not have to be from one small area, neither will the club members have to live near each other. The net will boost many more international joint projects, because it’s so easy with the net. It will help to carry the ideas of lions members from one country quickly to other countries where the same type of activities can often be applied as such, without reinventing the wheel. The net will also dramatically simplify the organizational work, for instance think about sending all the DG’s letters to all respondents at once by just pressing one button, with no copying, mailing, worrying about addresses, postage cos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net is the tool to make our helping hand reach around the world, not just clean our own neighbourhoo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UT: the effective using of the net means that lions members will in future  have to learn foreign languages and be ready to work globally.</a:t>
            </a:r>
            <a:endParaRPr b="0" lang="en-US" sz="1200" spc="-1" strike="noStrike">
              <a:solidFill>
                <a:srgbClr val="000000"/>
              </a:solidFill>
              <a:latin typeface="Times New Roman"/>
            </a:endParaRPr>
          </a:p>
        </p:txBody>
      </p:sp>
      <p:sp>
        <p:nvSpPr>
          <p:cNvPr id="289" name="PlaceHolder 2"/>
          <p:cNvSpPr>
            <a:spLocks noGrp="1"/>
          </p:cNvSpPr>
          <p:nvPr>
            <p:ph type="sldImg"/>
          </p:nvPr>
        </p:nvSpPr>
        <p:spPr>
          <a:xfrm>
            <a:off x="909720" y="744480"/>
            <a:ext cx="4911480" cy="36813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is the Internet toda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t is a network of networks, owned by nobody and controlled by nobody, essentially an international “computer language”, a common means for communiaction for at least 100 million, maybe up to 150 million users. The net consists of several separate services, most common of which are electronic mail, the World Wide Web multimedia service and several services for two-way communication. It is estimated that in WWW only there are at least 40 million pages of published information. The Lions have published about 630 separate service sites with a total of about 1000 pages of information on the n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et in comparison with other media is very fast, very robust and reliable and cheap to use. It’s main difference with other media like newspapers, faxes, text television services and TV is it’s two-way, interactive nature. Anybody and everybody can publish information on the net. Thus there is no censorship but also no guarantee of quality. Most often Internet is seen as a “secondary” information sourc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t>
            </a:r>
            <a:r>
              <a:rPr b="0" lang="en-US" sz="1200" spc="-1" strike="noStrike">
                <a:solidFill>
                  <a:srgbClr val="000000"/>
                </a:solidFill>
                <a:latin typeface="Times New Roman"/>
              </a:rPr>
              <a:t>You already know who we are and what our address is; here are the details and added information to our regular advertisements”</a:t>
            </a:r>
            <a:endParaRPr b="0" lang="en-US" sz="1200" spc="-1" strike="noStrike">
              <a:solidFill>
                <a:srgbClr val="000000"/>
              </a:solidFill>
              <a:latin typeface="Times New Roman"/>
            </a:endParaRPr>
          </a:p>
        </p:txBody>
      </p:sp>
      <p:sp>
        <p:nvSpPr>
          <p:cNvPr id="255" name="PlaceHolder 2"/>
          <p:cNvSpPr>
            <a:spLocks noGrp="1"/>
          </p:cNvSpPr>
          <p:nvPr>
            <p:ph type="sldImg"/>
          </p:nvPr>
        </p:nvSpPr>
        <p:spPr>
          <a:xfrm>
            <a:off x="909720" y="744480"/>
            <a:ext cx="4911480" cy="36813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a short introduction to how to get started in using the Internet in lions work, what is needed, what kind of things should be taken into consideration and what to avoid when designing the first website.</a:t>
            </a:r>
            <a:endParaRPr b="0" lang="en-US" sz="1200" spc="-1" strike="noStrike">
              <a:solidFill>
                <a:srgbClr val="000000"/>
              </a:solidFill>
              <a:latin typeface="Times New Roman"/>
            </a:endParaRPr>
          </a:p>
        </p:txBody>
      </p:sp>
      <p:sp>
        <p:nvSpPr>
          <p:cNvPr id="291" name="PlaceHolder 2"/>
          <p:cNvSpPr>
            <a:spLocks noGrp="1"/>
          </p:cNvSpPr>
          <p:nvPr>
            <p:ph type="sldImg"/>
          </p:nvPr>
        </p:nvSpPr>
        <p:spPr>
          <a:xfrm>
            <a:off x="909720" y="744480"/>
            <a:ext cx="4911480" cy="3681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is needed to get onlin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club wanting to get online needs first a computer that is connected to the net.Connectivity cannot be provided by the LionNet but everybody have to find their own ways online. The machine does not have to be new and expensive, there’s no rocket science involved and it does not take a computer nerd to do it. It just takes a couple of hours to learn the basics of web page design, but basically it’s just typing text with a few commands. The most important question to consider though is the content, why it should interest people and what would make people want to come back to the club site, to find out about new thing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t takes interest in becoming an editor. Updating and changing are extremely important. Nobody would want to read the same years old issue of “The Lion” over and over again, so why should they read your old homepage if it’s not refreshed regularly ?</a:t>
            </a:r>
            <a:endParaRPr b="0" lang="en-US" sz="1200" spc="-1" strike="noStrike">
              <a:solidFill>
                <a:srgbClr val="000000"/>
              </a:solidFill>
              <a:latin typeface="Times New Roman"/>
            </a:endParaRPr>
          </a:p>
        </p:txBody>
      </p:sp>
      <p:sp>
        <p:nvSpPr>
          <p:cNvPr id="293" name="PlaceHolder 2"/>
          <p:cNvSpPr>
            <a:spLocks noGrp="1"/>
          </p:cNvSpPr>
          <p:nvPr>
            <p:ph type="sldImg"/>
          </p:nvPr>
        </p:nvSpPr>
        <p:spPr>
          <a:xfrm>
            <a:off x="909720" y="744480"/>
            <a:ext cx="4911480" cy="36813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any clubs have the misconception that is is expensive to publish things on the Internet. This is not true. Although commercial internet service providers may charge high prices for space on their servers and their help in creating the pages, these are not needed in Lions work. We have a brilliant international group of over 100 experts ready to help and we can direct clubs to places where they get free server space. Expensive commercial web page design tools can be nice to use but they also make all kinds of assumptions about what you want which may be wrong. They’re OK to get you started quicker but you still need to learn the basics yourself to have full control. A normal person with some experience in typing and word processing will learn enough in 30 minut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asically the whole large LionNet has been contructed without spending a penny. The absolutely highest cost so far in LionNet’s history has been my flight ticket to Zürich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95" name="PlaceHolder 2"/>
          <p:cNvSpPr>
            <a:spLocks noGrp="1"/>
          </p:cNvSpPr>
          <p:nvPr>
            <p:ph type="sldImg"/>
          </p:nvPr>
        </p:nvSpPr>
        <p:spPr>
          <a:xfrm>
            <a:off x="909720" y="744480"/>
            <a:ext cx="4911480" cy="36813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does it work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b pages are kept in special machines called web servers that are always on and always connected to the net. People don’t usually have these in their homes but they get free space from some internet service provider’s serv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pages are just text plus a few commands written inside &lt;arrowhead brackets&gt;. The commands are called HTML (hypertext markup language) and they give the computer that is displaying the page commands like “show in the place of this command a picture called xxx”</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best way to get started is to look how other, already existing pages are made. When viewing a page one can choose from the browser program menu the command “view source”. That shows the actual page - the text and commands it consists of. Take a copy of a simple “no frills” page you like, save it on your own machine and start replacing your own text there. LionNet has special “template” pages that you can use, together with explanations what the different commands do. Don’t just steal other’s copyrighted design, but use their ideas and build upon them. Besides, between lions friends, if you write to a webmaster and ask if you can use his/her design that you especially like you rarely get a “no” as an answer. But you may get a good new friend.</a:t>
            </a:r>
            <a:endParaRPr b="0" lang="en-US" sz="1200" spc="-1" strike="noStrike">
              <a:solidFill>
                <a:srgbClr val="000000"/>
              </a:solidFill>
              <a:latin typeface="Times New Roman"/>
            </a:endParaRPr>
          </a:p>
        </p:txBody>
      </p:sp>
      <p:sp>
        <p:nvSpPr>
          <p:cNvPr id="297" name="PlaceHolder 2"/>
          <p:cNvSpPr>
            <a:spLocks noGrp="1"/>
          </p:cNvSpPr>
          <p:nvPr>
            <p:ph type="sldImg"/>
          </p:nvPr>
        </p:nvSpPr>
        <p:spPr>
          <a:xfrm>
            <a:off x="909720" y="744480"/>
            <a:ext cx="4911480" cy="36813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ave a look at the “webpage help” section at LionNet International. That will explain to you in simple terms how it works, show you how a homepage of an imaginary, non-existent Lions Club is made and how you can take it and modify to suit your own needs. There is a step by step guide to help you to know what to do next and there are links that direct you to places where you can find free server space. There are also links to outside sources of information like the “Beginner’s guide to HTML” by the US NCSA.</a:t>
            </a:r>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909720" y="744480"/>
            <a:ext cx="4911480" cy="36813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ere is the “template” home page of a nonexistent Lions club that is used as an example at LionNet International. You will find it from “webpage help” at europe.lionnet.com</a:t>
            </a:r>
            <a:endParaRPr b="0" lang="en-US" sz="1200" spc="-1" strike="noStrike">
              <a:solidFill>
                <a:srgbClr val="000000"/>
              </a:solidFill>
              <a:latin typeface="Times New Roman"/>
            </a:endParaRPr>
          </a:p>
        </p:txBody>
      </p:sp>
      <p:sp>
        <p:nvSpPr>
          <p:cNvPr id="301" name="PlaceHolder 2"/>
          <p:cNvSpPr>
            <a:spLocks noGrp="1"/>
          </p:cNvSpPr>
          <p:nvPr>
            <p:ph type="sldImg"/>
          </p:nvPr>
        </p:nvSpPr>
        <p:spPr>
          <a:xfrm>
            <a:off x="909720" y="744480"/>
            <a:ext cx="4911480" cy="36813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annotated HTML guide” of LionNet’s webpage help shows you the HTML code that creates the sample club homepage. Between the commands there are comments that tell you what the commands are doing and give you hints about what you should do to modify the design to your own needs.</a:t>
            </a:r>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909720" y="744480"/>
            <a:ext cx="4911480" cy="36813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are several commercial programs for web page design that cost upwards from 300 Swiss francs. The most famous of these are maybe Microsoft FrontPage and Netscape Navigator Gold. These tools enable you to make very good looking pages very quickly. But they also have their downsides. Besides the cost, they also create quite complicated HTML code that looks frigteningly difficult to a beginner. They also simplify things by making certain assumptions about what you “probably” want and when these assumptions then turn out to be not quite what you actually wanted you will have a hard time in forcing the program to do exactly as you lik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ost of us webmasters sometimes use these helpful programs, to create our own template pages that we can then modify. These programs are made to hide the HTML language from the designer person. We do not think that is a good idea but that the webmasters should learn a little about HTMl to be able to edit and simplify the code that programs like FrontPage mak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are also other kinds of tools for page creation that do not try to hide the HTML but give you buttons and shortcuts so you don’t have to remember the commands. One good and cheap example is “HomeSite” from Allaire Inc, but there are also others like “HotMetal” and “HotDog” that are really productive tools. </a:t>
            </a: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909720" y="744480"/>
            <a:ext cx="4911480" cy="36813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09720" y="744480"/>
            <a:ext cx="4911480" cy="3681360"/>
          </a:xfrm>
          <a:prstGeom prst="rect">
            <a:avLst/>
          </a:prstGeom>
          <a:ln w="0">
            <a:noFill/>
          </a:ln>
        </p:spPr>
      </p:sp>
      <p:sp>
        <p:nvSpPr>
          <p:cNvPr id="30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t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TML language allows you to add all kinds of tricks and effects to your pages, including animated or moving elements, background music, flickering words, live video etc et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dvice is: do not start from these. Keep you pages simple and “clean” of all “bells and whistles”. Firstly they often just distract the users from the message that you are trying to get through. Secondly, not all users will be having the newest browser programs that understand all these commands and users of old programs will see most weird errors on your pages. For instance if you divide your pages into several separate individual “frames” as some do and then somebody who has an old “non-frames” browser he or she will not see anything at all but just an empty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should always also remember our friends in far away regions with poor and slow connectivity. A page with all the tricks and whistles will be large and take a long time to load. Text will be OK with even the most terrible line connections but large pictures and animations will clog the line to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eep the picture elements small, with just a few colours. This dramatically reduces transmission time to distant read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09720" y="744480"/>
            <a:ext cx="4911480" cy="3681360"/>
          </a:xfrm>
          <a:prstGeom prst="rect">
            <a:avLst/>
          </a:prstGeom>
          <a:ln w="0">
            <a:noFill/>
          </a:ln>
        </p:spPr>
      </p:sp>
      <p:sp>
        <p:nvSpPr>
          <p:cNvPr id="30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ge of LionNet Norway is just one of the tens of examples of a keep-it-simple, yet beautiful page. It has a few tricks, like the animated graphic that changes from the Norwegian flag to the word “Norway” and it also features a side menu bar that makes the HTML code of the page a bit more complicated than just plain “bare bones” text all across the screen. But the page is fast to load, it’s very clear, it uses the same small graphic element (lions logo) nicely several times, which is a good isea since a machine reading the page will only load the small graphic once and can display several copies quickly. Colours are clear and easy to read and the page looks very professional and contains a lot of information. This kind of a page would work well even with the slow connectivity to places like the Middle East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page has been designed for just local users in mind. The main language is just Norwegian, which is not a good idea at all. A front page should always have a clear choise of languages that leads to separate pages designed for different audiences. You are not telling the same things to readers in your own country that you are telling the foreign visitors and you are not supposed to think others will understand Finnish or Norwegian even if they are official Lions languages. Especially clubs in the English speaking world tend often to forget there are others aloso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spread of the Internet is spectacular. In most areas of the net annual growth rates are around 300-500%. Especially commercial companies are rushing to the Internet. Already in the summer of 1996 it was estimated that at least 1,4 million citizens in the Nordic countries used the net at least once in two weeks. Today in Finland only, about half a million people are classified as Internet use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penetration of the net to the society is deepest in the world in the Nordic countries. The countries with most Internet connected computers per capita are Finland, Iceland, Norway and the US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countries with good telecommunication infrastructure and real price competition the net is cheap, available everywhere and easy to use and the governments are spending much money to make their citizens “net litera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andier and cheaper than the phone, more reliable than the fax, perfect for one to many communication and it doesn’t need big investments.</a:t>
            </a:r>
            <a:endParaRPr b="0" lang="en-US" sz="1200" spc="-1" strike="noStrike">
              <a:solidFill>
                <a:srgbClr val="000000"/>
              </a:solidFill>
              <a:latin typeface="Times New Roman"/>
            </a:endParaRPr>
          </a:p>
        </p:txBody>
      </p:sp>
      <p:sp>
        <p:nvSpPr>
          <p:cNvPr id="257" name="PlaceHolder 2"/>
          <p:cNvSpPr>
            <a:spLocks noGrp="1"/>
          </p:cNvSpPr>
          <p:nvPr>
            <p:ph type="sldImg"/>
          </p:nvPr>
        </p:nvSpPr>
        <p:spPr>
          <a:xfrm>
            <a:off x="909720" y="744480"/>
            <a:ext cx="4911480" cy="3681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09720" y="744480"/>
            <a:ext cx="4911480" cy="3681360"/>
          </a:xfrm>
          <a:prstGeom prst="rect">
            <a:avLst/>
          </a:prstGeom>
          <a:ln w="0">
            <a:noFill/>
          </a:ln>
        </p:spPr>
      </p:sp>
      <p:sp>
        <p:nvSpPr>
          <p:cNvPr id="31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ne is: be careful with copyrights and trademarks. Lions Clubs International is very carefully protecting its rights to the Lions trademarks and you re definitely not supposed to start selling what ever you like on the net under the Lions name. Likewise, you are not supposed to all by yourself start calling your club page “LionNet Myplace”. The LionNet name, logo and slogan are all copyrihted design items that are only intended for national and international level cooperation use after getting an author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 it is though with music, copyrighted cartoon images and copyrighted photographs. Although it is technically very easy to place some nice background music on a page that will lead the reader to the “right feeling” while viewing your page, BE CAREFUL !  The organizations that look after the copyright rights of composers and music playing artists are doing “police work” on the net and it may well cost you several thousands of francs, even several hundreds of francs per month if you are caught with publishing copyright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designs are also under copyright protection. Do not copy without as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ve a look at europe.lionnet.com/copyright.html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09720" y="744480"/>
            <a:ext cx="4911480" cy="3681360"/>
          </a:xfrm>
          <a:prstGeom prst="rect">
            <a:avLst/>
          </a:prstGeom>
          <a:ln w="0">
            <a:noFill/>
          </a:ln>
        </p:spPr>
      </p:sp>
      <p:sp>
        <p:nvSpPr>
          <p:cNvPr id="31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 already mentioned: the pages, especially your front page should be quick to load. A front page with 10 photographs of your beautiful country may be nice looking but if it takes forever to load from Uganda, don’t expect to make friends with LionNet Uganda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front page is just like the front page of a daily newspaper. It should at the first glance show the important things: what, why, where ? Especially it should give is just a few words or graphic elements the reason why users should go deeper down into your web of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o you are writing to. We made the mistake when we started that we thought we were writing to the almost next door neighbour, just like our club is operating just on very local level. But we put maybe one twentieth of the text in English. My surprise was great when I started to get positive feedback from all over the world: USA, Canada, South America, South Africa, New Zealand. But from nowhere closer than Antwerpen. Now we have quite separate pages with quite different contents for readers that speak Finnish and English. And the English is our main languag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09720" y="744480"/>
            <a:ext cx="4911480" cy="3681360"/>
          </a:xfrm>
          <a:prstGeom prst="rect">
            <a:avLst/>
          </a:prstGeom>
          <a:ln w="0">
            <a:noFill/>
          </a:ln>
        </p:spPr>
      </p:sp>
      <p:sp>
        <p:nvSpPr>
          <p:cNvPr id="31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lubs and districts make nice looking pages that unfortunately do dot address the question “why are they there” ? To an occasional reader it would just seem like the club in question wanted to “be there” because all the others are there also, but the point is m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often the lions err into using the special Lions jargon, to use all the funny combinations of letters that immediately tell another lion that a person or a thing is of high importance but that do not convey any meaning whatsoever to outsiders. What is a “PID” for an outsider ? “Personal Identification Code”  of a bank card or a very honored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point is also that we shouldn’t take for granted that all people know where we are from. There are by far too many Lions club site that just have two letters like “CA” for instance with no country indication in their address and the creators think that all the world knows that it stands for “California”. I have been many times asked where Finland is, not just where Lions Club Espoo/Meri is from. We should tell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09720" y="744480"/>
            <a:ext cx="4911480" cy="3681360"/>
          </a:xfrm>
          <a:prstGeom prst="rect">
            <a:avLst/>
          </a:prstGeom>
          <a:ln w="0">
            <a:noFill/>
          </a:ln>
        </p:spPr>
      </p:sp>
      <p:sp>
        <p:nvSpPr>
          <p:cNvPr id="31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b page is not just like a book or a TV program. The Internet is a two-way communication media and we tend often to forget the other direction. But it is a good means for giving the users the opprtunity to tell what they have to say, to express their opinions, interest or not interest and in best cases to help themselves just by using tools that we prov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have here in mind are well edited, good looking discussion forums or bulletin board type of services on given topics. For instance the Liopns could easily create an electronic forum where the unemployed can search for jobs and tell about themselves to possible emplo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example could be a forum where the victims and ex-users of drugs can talk about their experiences about drugs, where the schoolkids can post their questions about the drugs and where empathetically working professionals can answer them. This is technically simple but just needs the people to ru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ons could also take a more active role in publishing learning material online and we would be the perfect leaders to help disabled but smart people to build special online services for other disabled people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09720" y="744480"/>
            <a:ext cx="4911480" cy="3681360"/>
          </a:xfrm>
          <a:prstGeom prst="rect">
            <a:avLst/>
          </a:prstGeom>
          <a:ln w="0">
            <a:noFill/>
          </a:ln>
        </p:spPr>
      </p:sp>
      <p:sp>
        <p:nvSpPr>
          <p:cNvPr id="31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often it is the one computer literate in the club or district that gets the idea of putting things about the Lions club on the internet. But clubs and districts should take care of these people. If a website is handled by just one person and especially since keeping a website living, interesting and good it needs a lot of weekly if not daily attention this might easily become a burden for the webmaster. Now if he or she does not have the feeling that he/she is getting the proper help, support and ideas the website will soon be gone. Or will just be one more old relic with a lot of outdated information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veral countries the national webmaster has been given a formal position in the MD hierarchy. For instance in some countries the national nodemaster is invited to participate in all council of DGs meetings to get the information. In some other places like Finland for example we have an MD level working group to support the national nodemaster.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09720" y="744480"/>
            <a:ext cx="4911480" cy="3681360"/>
          </a:xfrm>
          <a:prstGeom prst="rect">
            <a:avLst/>
          </a:prstGeom>
          <a:ln w="0">
            <a:noFill/>
          </a:ln>
        </p:spPr>
      </p:sp>
      <p:sp>
        <p:nvSpPr>
          <p:cNvPr id="32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not to do on the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Internet there are certain ways of behaving, the so called net etiquette or “netiquette” that governs what people are supposed to do and what they are not supposed to do. Especially one should keep in mind that all commercial use was explicitly FORBIDDEN on the net not a long time ago and also that many people PAY for receiving messages via e-mail and the web. Therefore if you are asking for money or advertising something you should be REAL CAREFUL not to irritat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ask money for your help, be it for setting up homepages or whatever. On the net it is a habit to help everybody and be frien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ell space for ads on Lions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end e-mail messages where you are selling something or promoting something, especially do not send mass postings. This is called “spamming”. It’s considered VERY bad behaviour and there’s a war against spa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the open bulletin board type of discussion forums or the Usenet News service for promoting something that you sell. That is a VERY rude th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keep the links on your pages up to date. People get irritated when they find non working link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09720" y="744480"/>
            <a:ext cx="4911480" cy="3681360"/>
          </a:xfrm>
          <a:prstGeom prst="rect">
            <a:avLst/>
          </a:prstGeom>
          <a:ln w="0">
            <a:noFill/>
          </a:ln>
        </p:spPr>
      </p:sp>
      <p:sp>
        <p:nvSpPr>
          <p:cNvPr id="32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get your readers back to your pages a second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rint a magazine you renew all the contents at every issue. On the net you can and should do changes and updatesmuch more often than a magazine publishes issues, but you don’t change all of it. The art is in the trick how do you get the people back to your pages over and over again so that your real important news get thr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give them a reason. Some people doing Internet marketing give something for free every day, or they may have a funny cartoon that changes regularly. A news forum is nice but shall be maintained and edited daily or at least weekly. You may also want to publish day to day results of some activity that interests people. Or you may set up some interesting service for free that changes daily: money exchange rates, football league results, an electronic dictionary or a search tool, whatever. The trick of the trade is to be creative and make people REMEMBER your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ionNet International, our “trick” is keeping the links lists to all possible Lions sites all over the world and also to maintain a “new links” page. People want to come and have a look at LionNet to find out what’s new on the net about lionism. But all this takes a lot of wor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09720" y="744480"/>
            <a:ext cx="4911480" cy="3681360"/>
          </a:xfrm>
          <a:prstGeom prst="rect">
            <a:avLst/>
          </a:prstGeom>
          <a:ln w="0">
            <a:noFill/>
          </a:ln>
        </p:spPr>
      </p:sp>
      <p:sp>
        <p:nvSpPr>
          <p:cNvPr id="32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you f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t least over 40 million service sites on the Internet. If you just put something there you will not be found, at least not necessar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tell the LionNet International about your new service pages. That way they will be linked and the users of all the other countries are directed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at you may find it nice to tell about your existence to general purpose Internet search tools. For instance the famous search site Yahoo (www.yahoo.com) is happy to take note of you. So are the maintainers of many of the automated search robots: Alta Vista, WebCrawler, InfoSeek, Nordic Web Ind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be careful for fraud ! There are very many ruthless people on the net who ask your money for “publishing” your address on the net. DO NOT pay anything to anybody for such services and always check before submitting your information that no payment is expected.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09720" y="744480"/>
            <a:ext cx="4911480" cy="3681360"/>
          </a:xfrm>
          <a:prstGeom prst="rect">
            <a:avLst/>
          </a:prstGeom>
          <a:ln w="0">
            <a:noFill/>
          </a:ln>
        </p:spPr>
      </p:sp>
      <p:sp>
        <p:nvSpPr>
          <p:cNvPr id="32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but not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encouraged to join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on the net is far easier, far cheaper, far less challenging, far more fun than you think. But it’s also extremely addictive, because you get a lot of new good friends who want to chat with you, play jokes on you, get to know you. You end up enjoying your time on the net, but it easily takes your whol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n the Net We Serve” - why don’t you al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k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kka@lionnet.co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do the Lions use it fo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or us the net has so far been mostly like an electronic one to many bulletin, electronic supplement of the Lion which can be updated daily. Also, e-mail and e-mail lists are channels for personal contact and “personal contact to the unknown friend.” Services that are coming rapidly are interactive message board forums, closed user groups for instance for internal council or district use, fill-in forms the contents of which are sent via e-mail and also more and more real-time services like inet phone, video conferencing, multicast or broadcast videos etc.</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o many the net is just a place to show their address and contact info, others find friends, ideas for activities, spread the word of lionism etc. The net is extremely international. For instance in Finland about 85% of the readers of the pages come from abroad or at least read English pag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else could we use it fo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ill-in forms to automated databases - “no touch system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lectronic cash collecting.  “Intranets”,  real-time meetings, knowledge databases ...</a:t>
            </a:r>
            <a:endParaRPr b="0" lang="en-US" sz="1200" spc="-1" strike="noStrike">
              <a:solidFill>
                <a:srgbClr val="000000"/>
              </a:solidFill>
              <a:latin typeface="Times New Roman"/>
            </a:endParaRPr>
          </a:p>
        </p:txBody>
      </p:sp>
      <p:sp>
        <p:nvSpPr>
          <p:cNvPr id="259" name="PlaceHolder 2"/>
          <p:cNvSpPr>
            <a:spLocks noGrp="1"/>
          </p:cNvSpPr>
          <p:nvPr>
            <p:ph type="sldImg"/>
          </p:nvPr>
        </p:nvSpPr>
        <p:spPr>
          <a:xfrm>
            <a:off x="909720" y="744480"/>
            <a:ext cx="4911480" cy="36813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09720" y="744480"/>
            <a:ext cx="4911480" cy="3681360"/>
          </a:xfrm>
          <a:prstGeom prst="rect">
            <a:avLst/>
          </a:prstGeom>
          <a:ln w="0">
            <a:noFill/>
          </a:ln>
        </p:spPr>
      </p:sp>
      <p:sp>
        <p:nvSpPr>
          <p:cNvPr id="26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e examples of what can happen on the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octor from Malaysia thanks for help for getting money for a new eye clinic because he could prove via LionNet his idea was medically valid as it was used in Fin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oatian boy who needed acute surgery in London got free accommodation for him and his parents and doctor in just two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ons member who lost his legs got a motorized wheel chair by help via the LionNet from a US clu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ons club from Africa wanted me “to do something” to enable them to send their monthly report forms to the LCI via e-mail “because the local postal service loses about 50% of all written letters whereas the internet is </a:t>
            </a:r>
            <a:r>
              <a:rPr b="0" lang="en-US" sz="1200" spc="-1" strike="noStrike" u="sng">
                <a:solidFill>
                  <a:srgbClr val="000000"/>
                </a:solidFill>
                <a:uFillTx/>
                <a:latin typeface="Times New Roman"/>
              </a:rPr>
              <a:t>work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get very close personal friends from all over the wor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09720" y="744480"/>
            <a:ext cx="4911480" cy="3681360"/>
          </a:xfrm>
          <a:prstGeom prst="rect">
            <a:avLst/>
          </a:prstGeom>
          <a:ln w="0">
            <a:noFill/>
          </a:ln>
        </p:spPr>
      </p:sp>
      <p:sp>
        <p:nvSpPr>
          <p:cNvPr id="26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andinavian Red Feather project is going to be a tremendously big lions activity in all Scandinavian countries at the same time in 1998 and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lanning to use the Internet extensively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ublishing of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llecting the data from clu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forms will be primarily web-based and the paper form is an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is flowing directly to databases - no human work in rety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wing the world the progress of the money colle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09720" y="744480"/>
            <a:ext cx="4911480" cy="3681360"/>
          </a:xfrm>
          <a:prstGeom prst="rect">
            <a:avLst/>
          </a:prstGeom>
          <a:ln w="0">
            <a:noFill/>
          </a:ln>
        </p:spPr>
      </p:sp>
      <p:sp>
        <p:nvSpPr>
          <p:cNvPr id="26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s much used to quickly contact “just any lions member” in some country, or sometimes not even near that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usual requests is “I’m going to travel to XYZ in two days, please tell me the names and addresses of some local lions so I can mee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m travelling to Korea tomorrow morning. My father was there during the Korean war in the 1950’s and met a lions member called Mr. XX. Can you please find his address and telephone number for me before tomorrow mo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ould like to become a lions member. I live in the United Arab Emirates. What should 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o you collect spectacles? We would need them here in Sri Lanka and we would like to establish a club twinning relation with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 I don’t know anything about Finland. Do you have a lot of lions there? What is Finland like ? Do you have a lot of polar bears ? Eskimos? What do you do for living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et is basically a community of </a:t>
            </a:r>
            <a:r>
              <a:rPr b="0" lang="en-US" sz="1200" spc="-1" strike="noStrike" u="sng">
                <a:solidFill>
                  <a:srgbClr val="000000"/>
                </a:solidFill>
                <a:uFillTx/>
                <a:latin typeface="Times New Roman"/>
              </a:rPr>
              <a:t>nice</a:t>
            </a:r>
            <a:r>
              <a:rPr b="0" lang="en-US" sz="1200" spc="-1" strike="noStrike">
                <a:solidFill>
                  <a:srgbClr val="000000"/>
                </a:solidFill>
                <a:latin typeface="Times New Roman"/>
              </a:rPr>
              <a:t> people. The net has its own way of behaving, the net etiquette or “netiquet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n the Internet you will find that all people are extremely helpful, extremely unofficial and extremely effectiv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member where the net started fr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 community of fellow researchers and academic studen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ll commercial use was strictly forbidd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n the net it’s perfectly normal that your best friend is in Tasmania, Uganda, California, Iceland, whereever</a:t>
            </a:r>
            <a:endParaRPr b="0" lang="en-US" sz="1200" spc="-1" strike="noStrike">
              <a:solidFill>
                <a:srgbClr val="000000"/>
              </a:solidFill>
              <a:latin typeface="Times New Roman"/>
            </a:endParaRPr>
          </a:p>
        </p:txBody>
      </p:sp>
      <p:sp>
        <p:nvSpPr>
          <p:cNvPr id="267" name="PlaceHolder 2"/>
          <p:cNvSpPr>
            <a:spLocks noGrp="1"/>
          </p:cNvSpPr>
          <p:nvPr>
            <p:ph type="sldImg"/>
          </p:nvPr>
        </p:nvSpPr>
        <p:spPr>
          <a:xfrm>
            <a:off x="909720" y="744480"/>
            <a:ext cx="4911480" cy="36813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09720" y="744480"/>
            <a:ext cx="4911480" cy="3681360"/>
          </a:xfrm>
          <a:prstGeom prst="rect">
            <a:avLst/>
          </a:prstGeom>
          <a:ln w="0">
            <a:noFill/>
          </a:ln>
        </p:spPr>
      </p:sp>
      <p:sp>
        <p:nvSpPr>
          <p:cNvPr id="269" name="PlaceHolder 2"/>
          <p:cNvSpPr>
            <a:spLocks noGrp="1"/>
          </p:cNvSpPr>
          <p:nvPr>
            <p:ph type="body"/>
          </p:nvPr>
        </p:nvSpPr>
        <p:spPr>
          <a:xfrm>
            <a:off x="896400" y="4513320"/>
            <a:ext cx="4937400" cy="4433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distance does not play any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lectronic mail is not sensitive to time zone problems like the phone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mail is there in 10-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al time “chat” on IRC (Internet Relay Chat), the use of audio or video conferencing or internet telephony is widespread. Especially lions like the IRC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nnish lions annual convention in Pori this year we had a LionNet booth where about 1000 people visited during the day and where I was able to demonstrate real time chat on the net. At midnight the Finnish MD-CC was watching while two Finns, three Canadians, one Australian and one Fiji lion were discussing the happenings of the day and their whereab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onNet International Administrators group is a good example about how the electronic mail can speed up communication and make it possible for a truly international working group to do active daily work together. We have one Finn, one Canadian, one from USA, one Swiss, one Belgian and one Tasmanian. Each day up to 25 letters are written. Often the same letter is answered and returned 4 times a day. It is really effective work that takes 3-4 hours a day.  At most a LionNet Int Adm member may get up to 200 e-mail letters a day. 70-80 is quite usu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660066"/>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660066"/>
                </a:solidFill>
                <a:latin typeface="Times New Roman"/>
              </a:rPr>
              <a:t>&lt;date/time&gt;</a:t>
            </a:r>
            <a:endParaRPr b="0" lang="en-US" sz="1400" spc="-1" strike="noStrike">
              <a:solidFill>
                <a:srgbClr val="000000"/>
              </a:solidFill>
              <a:latin typeface="Times New Roman"/>
            </a:endParaRPr>
          </a:p>
        </p:txBody>
      </p:sp>
      <p:grpSp>
        <p:nvGrpSpPr>
          <p:cNvPr id="1" name=""/>
          <p:cNvGrpSpPr/>
          <p:nvPr/>
        </p:nvGrpSpPr>
        <p:grpSpPr>
          <a:xfrm>
            <a:off x="685800" y="117360"/>
            <a:ext cx="8456760" cy="6739200"/>
            <a:chOff x="685800" y="117360"/>
            <a:chExt cx="8456760" cy="6739200"/>
          </a:xfrm>
        </p:grpSpPr>
        <p:sp>
          <p:nvSpPr>
            <p:cNvPr id="2" name=""/>
            <p:cNvSpPr/>
            <p:nvPr/>
          </p:nvSpPr>
          <p:spPr>
            <a:xfrm>
              <a:off x="685800" y="6629400"/>
              <a:ext cx="3505320" cy="2271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nvGrpSpPr>
            <p:cNvPr id="3" name=""/>
            <p:cNvGrpSpPr/>
            <p:nvPr/>
          </p:nvGrpSpPr>
          <p:grpSpPr>
            <a:xfrm>
              <a:off x="4538520" y="6746760"/>
              <a:ext cx="4332600" cy="65160"/>
              <a:chOff x="4538520" y="6746760"/>
              <a:chExt cx="4332600" cy="65160"/>
            </a:xfrm>
          </p:grpSpPr>
          <p:sp>
            <p:nvSpPr>
              <p:cNvPr id="4" name=""/>
              <p:cNvSpPr/>
              <p:nvPr/>
            </p:nvSpPr>
            <p:spPr>
              <a:xfrm>
                <a:off x="4538520" y="6746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5" name=""/>
              <p:cNvSpPr/>
              <p:nvPr/>
            </p:nvSpPr>
            <p:spPr>
              <a:xfrm>
                <a:off x="514836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 name=""/>
              <p:cNvSpPr/>
              <p:nvPr/>
            </p:nvSpPr>
            <p:spPr>
              <a:xfrm>
                <a:off x="575784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 name=""/>
              <p:cNvSpPr/>
              <p:nvPr/>
            </p:nvSpPr>
            <p:spPr>
              <a:xfrm>
                <a:off x="636732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8" name=""/>
              <p:cNvSpPr/>
              <p:nvPr/>
            </p:nvSpPr>
            <p:spPr>
              <a:xfrm>
                <a:off x="697716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9" name=""/>
              <p:cNvSpPr/>
              <p:nvPr/>
            </p:nvSpPr>
            <p:spPr>
              <a:xfrm>
                <a:off x="758664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0" name=""/>
              <p:cNvSpPr/>
              <p:nvPr/>
            </p:nvSpPr>
            <p:spPr>
              <a:xfrm>
                <a:off x="8196120" y="6746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 name=""/>
              <p:cNvSpPr/>
              <p:nvPr/>
            </p:nvSpPr>
            <p:spPr>
              <a:xfrm>
                <a:off x="880596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2" name=""/>
            <p:cNvSpPr/>
            <p:nvPr/>
          </p:nvSpPr>
          <p:spPr>
            <a:xfrm>
              <a:off x="762120" y="762120"/>
              <a:ext cx="838044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3" name=""/>
            <p:cNvSpPr/>
            <p:nvPr/>
          </p:nvSpPr>
          <p:spPr>
            <a:xfrm>
              <a:off x="804960" y="117360"/>
              <a:ext cx="6660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14" name=""/>
            <p:cNvSpPr/>
            <p:nvPr/>
          </p:nvSpPr>
          <p:spPr>
            <a:xfrm>
              <a:off x="804960" y="347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 name=""/>
            <p:cNvSpPr/>
            <p:nvPr/>
          </p:nvSpPr>
          <p:spPr>
            <a:xfrm>
              <a:off x="804960" y="5745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6"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lick to edit the title text format</a:t>
            </a:r>
            <a:endParaRPr b="1" lang="en-US" sz="4400" spc="-1" strike="noStrike">
              <a:solidFill>
                <a:srgbClr val="ffffff"/>
              </a:solidFill>
              <a:latin typeface="Goudy Old Style"/>
            </a:endParaRPr>
          </a:p>
        </p:txBody>
      </p:sp>
      <p:sp>
        <p:nvSpPr>
          <p:cNvPr id="17" name="PlaceHolder 3"/>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lick to edit the outline text format</a:t>
            </a:r>
            <a:endParaRPr b="1" lang="en-US" sz="3200" spc="-1" strike="noStrike">
              <a:solidFill>
                <a:srgbClr val="660066"/>
              </a:solidFill>
              <a:latin typeface="Goudy Old Style"/>
            </a:endParaRPr>
          </a:p>
          <a:p>
            <a:pPr lvl="1" marL="735480" indent="-282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cond Outline Level</a:t>
            </a:r>
            <a:endParaRPr b="1" lang="en-US" sz="3200" spc="-1" strike="noStrike">
              <a:solidFill>
                <a:srgbClr val="660066"/>
              </a:solidFill>
              <a:latin typeface="Goudy Old Style"/>
            </a:endParaRPr>
          </a:p>
          <a:p>
            <a:pPr lvl="2" marL="113148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ird Outline Level</a:t>
            </a:r>
            <a:endParaRPr b="1" lang="en-US" sz="3200" spc="-1" strike="noStrike">
              <a:solidFill>
                <a:srgbClr val="660066"/>
              </a:solidFill>
              <a:latin typeface="Goudy Old Style"/>
            </a:endParaRPr>
          </a:p>
          <a:p>
            <a:pPr lvl="3" marL="158400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ourth Outline Level</a:t>
            </a:r>
            <a:endParaRPr b="1" lang="en-US" sz="3200" spc="-1" strike="noStrike">
              <a:solidFill>
                <a:srgbClr val="660066"/>
              </a:solidFill>
              <a:latin typeface="Goudy Old Style"/>
            </a:endParaRPr>
          </a:p>
          <a:p>
            <a:pPr lvl="4"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fth Outline Level</a:t>
            </a:r>
            <a:endParaRPr b="1" lang="en-US" sz="3200" spc="-1" strike="noStrike">
              <a:solidFill>
                <a:srgbClr val="660066"/>
              </a:solidFill>
              <a:latin typeface="Goudy Old Style"/>
            </a:endParaRPr>
          </a:p>
          <a:p>
            <a:pPr lvl="5"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ixth Outline Level</a:t>
            </a:r>
            <a:endParaRPr b="1" lang="en-US" sz="3200" spc="-1" strike="noStrike">
              <a:solidFill>
                <a:srgbClr val="660066"/>
              </a:solidFill>
              <a:latin typeface="Goudy Old Style"/>
            </a:endParaRPr>
          </a:p>
          <a:p>
            <a:pPr lvl="6"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venth Outline Level</a:t>
            </a:r>
            <a:endParaRPr b="1" lang="en-US" sz="3200" spc="-1" strike="noStrike">
              <a:solidFill>
                <a:srgbClr val="660066"/>
              </a:solidFill>
              <a:latin typeface="Goudy Old Style"/>
            </a:endParaRPr>
          </a:p>
        </p:txBody>
      </p:sp>
      <p:sp>
        <p:nvSpPr>
          <p:cNvPr id="18" name=""/>
          <p:cNvSpPr/>
          <p:nvPr/>
        </p:nvSpPr>
        <p:spPr>
          <a:xfrm>
            <a:off x="5181480" y="5943600"/>
            <a:ext cx="3200400" cy="915480"/>
          </a:xfrm>
          <a:prstGeom prst="rect">
            <a:avLst/>
          </a:prstGeom>
          <a:solidFill>
            <a:srgbClr val="fce46a"/>
          </a:solidFill>
          <a:ln w="0">
            <a:noFill/>
          </a:ln>
        </p:spPr>
        <p:style>
          <a:lnRef idx="0"/>
          <a:fillRef idx="0"/>
          <a:effectRef idx="0"/>
          <a:fontRef idx="minor"/>
        </p:style>
        <p:txBody>
          <a:bodyPr lIns="92160" rIns="92160" tIns="46080" bIns="4608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33"/>
                </a:solidFill>
                <a:latin typeface="Goudy Old Style"/>
              </a:rPr>
              <a:t>On the Net We Serve</a:t>
            </a:r>
            <a:endParaRPr b="0" lang="en-US" sz="2700" spc="-1" strike="noStrike">
              <a:solidFill>
                <a:srgbClr val="660066"/>
              </a:solidFill>
              <a:latin typeface="Times New Roman"/>
            </a:endParaRPr>
          </a:p>
        </p:txBody>
      </p:sp>
      <p:pic>
        <p:nvPicPr>
          <p:cNvPr id="19" name="" descr=""/>
          <p:cNvPicPr/>
          <p:nvPr/>
        </p:nvPicPr>
        <p:blipFill>
          <a:blip r:embed="rId2"/>
          <a:stretch/>
        </p:blipFill>
        <p:spPr>
          <a:xfrm>
            <a:off x="4929120" y="5133960"/>
            <a:ext cx="3543480" cy="8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2.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63" name=""/>
          <p:cNvGrpSpPr/>
          <p:nvPr/>
        </p:nvGrpSpPr>
        <p:grpSpPr>
          <a:xfrm>
            <a:off x="0" y="117360"/>
            <a:ext cx="9142560" cy="6739200"/>
            <a:chOff x="0" y="117360"/>
            <a:chExt cx="9142560" cy="6739200"/>
          </a:xfrm>
        </p:grpSpPr>
        <p:sp>
          <p:nvSpPr>
            <p:cNvPr id="64" name=""/>
            <p:cNvSpPr/>
            <p:nvPr/>
          </p:nvSpPr>
          <p:spPr>
            <a:xfrm>
              <a:off x="685800" y="6529320"/>
              <a:ext cx="3505320" cy="32724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65" name=""/>
            <p:cNvSpPr/>
            <p:nvPr/>
          </p:nvSpPr>
          <p:spPr>
            <a:xfrm>
              <a:off x="685800" y="2438280"/>
              <a:ext cx="8456760" cy="76212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66" name=""/>
            <p:cNvSpPr/>
            <p:nvPr/>
          </p:nvSpPr>
          <p:spPr>
            <a:xfrm>
              <a:off x="880920" y="117360"/>
              <a:ext cx="6696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67" name=""/>
            <p:cNvSpPr/>
            <p:nvPr/>
          </p:nvSpPr>
          <p:spPr>
            <a:xfrm>
              <a:off x="880920" y="347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8" name=""/>
            <p:cNvSpPr/>
            <p:nvPr/>
          </p:nvSpPr>
          <p:spPr>
            <a:xfrm>
              <a:off x="880920" y="574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9" name=""/>
            <p:cNvSpPr/>
            <p:nvPr/>
          </p:nvSpPr>
          <p:spPr>
            <a:xfrm>
              <a:off x="880920" y="1033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0" name=""/>
            <p:cNvSpPr/>
            <p:nvPr/>
          </p:nvSpPr>
          <p:spPr>
            <a:xfrm>
              <a:off x="880920" y="1260360"/>
              <a:ext cx="6696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1" name=""/>
            <p:cNvSpPr/>
            <p:nvPr/>
          </p:nvSpPr>
          <p:spPr>
            <a:xfrm>
              <a:off x="880920" y="1490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2" name=""/>
            <p:cNvSpPr/>
            <p:nvPr/>
          </p:nvSpPr>
          <p:spPr>
            <a:xfrm>
              <a:off x="880920" y="1717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3" name=""/>
            <p:cNvSpPr/>
            <p:nvPr/>
          </p:nvSpPr>
          <p:spPr>
            <a:xfrm>
              <a:off x="880920" y="1947960"/>
              <a:ext cx="66960" cy="63360"/>
            </a:xfrm>
            <a:prstGeom prst="ellipse">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660066"/>
                </a:solidFill>
                <a:latin typeface="Times New Roman"/>
              </a:endParaRPr>
            </a:p>
          </p:txBody>
        </p:sp>
        <p:sp>
          <p:nvSpPr>
            <p:cNvPr id="74" name=""/>
            <p:cNvSpPr/>
            <p:nvPr/>
          </p:nvSpPr>
          <p:spPr>
            <a:xfrm>
              <a:off x="880920" y="2176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75" name=""/>
            <p:cNvGrpSpPr/>
            <p:nvPr/>
          </p:nvGrpSpPr>
          <p:grpSpPr>
            <a:xfrm>
              <a:off x="4538520" y="6670800"/>
              <a:ext cx="4332600" cy="64800"/>
              <a:chOff x="4538520" y="6670800"/>
              <a:chExt cx="4332600" cy="64800"/>
            </a:xfrm>
          </p:grpSpPr>
          <p:sp>
            <p:nvSpPr>
              <p:cNvPr id="76" name=""/>
              <p:cNvSpPr/>
              <p:nvPr/>
            </p:nvSpPr>
            <p:spPr>
              <a:xfrm>
                <a:off x="4538520" y="6670800"/>
                <a:ext cx="669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7" name=""/>
              <p:cNvSpPr/>
              <p:nvPr/>
            </p:nvSpPr>
            <p:spPr>
              <a:xfrm>
                <a:off x="514836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8" name=""/>
              <p:cNvSpPr/>
              <p:nvPr/>
            </p:nvSpPr>
            <p:spPr>
              <a:xfrm>
                <a:off x="575784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9" name=""/>
              <p:cNvSpPr/>
              <p:nvPr/>
            </p:nvSpPr>
            <p:spPr>
              <a:xfrm>
                <a:off x="636732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0" name=""/>
              <p:cNvSpPr/>
              <p:nvPr/>
            </p:nvSpPr>
            <p:spPr>
              <a:xfrm>
                <a:off x="697716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1" name=""/>
              <p:cNvSpPr/>
              <p:nvPr/>
            </p:nvSpPr>
            <p:spPr>
              <a:xfrm>
                <a:off x="758664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2" name=""/>
              <p:cNvSpPr/>
              <p:nvPr/>
            </p:nvSpPr>
            <p:spPr>
              <a:xfrm>
                <a:off x="8196120" y="6670800"/>
                <a:ext cx="669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3" name=""/>
              <p:cNvSpPr/>
              <p:nvPr/>
            </p:nvSpPr>
            <p:spPr>
              <a:xfrm>
                <a:off x="880596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grpSp>
        <p:sp>
          <p:nvSpPr>
            <p:cNvPr id="84" name=""/>
            <p:cNvSpPr/>
            <p:nvPr/>
          </p:nvSpPr>
          <p:spPr>
            <a:xfrm>
              <a:off x="880920" y="804960"/>
              <a:ext cx="66960" cy="63360"/>
            </a:xfrm>
            <a:prstGeom prst="ellipse">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660066"/>
                </a:solidFill>
                <a:latin typeface="Times New Roman"/>
              </a:endParaRPr>
            </a:p>
          </p:txBody>
        </p:sp>
        <p:grpSp>
          <p:nvGrpSpPr>
            <p:cNvPr id="85" name=""/>
            <p:cNvGrpSpPr/>
            <p:nvPr/>
          </p:nvGrpSpPr>
          <p:grpSpPr>
            <a:xfrm>
              <a:off x="0" y="3693960"/>
              <a:ext cx="1909800" cy="1909800"/>
              <a:chOff x="0" y="3693960"/>
              <a:chExt cx="1909800" cy="1909800"/>
            </a:xfrm>
          </p:grpSpPr>
          <p:sp>
            <p:nvSpPr>
              <p:cNvPr id="86"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87"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88"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89" name="PlaceHolder 1"/>
          <p:cNvSpPr>
            <a:spLocks noGrp="1"/>
          </p:cNvSpPr>
          <p:nvPr>
            <p:ph type="title"/>
          </p:nvPr>
        </p:nvSpPr>
        <p:spPr>
          <a:xfrm>
            <a:off x="990360" y="1828800"/>
            <a:ext cx="7924680" cy="1905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Organized use of the Internet</a:t>
            </a:r>
            <a:endParaRPr b="1" lang="en-US" sz="4400" spc="-1" strike="noStrike">
              <a:solidFill>
                <a:srgbClr val="ffffff"/>
              </a:solidFill>
              <a:latin typeface="Goudy Old Style"/>
            </a:endParaRPr>
          </a:p>
        </p:txBody>
      </p:sp>
      <p:sp>
        <p:nvSpPr>
          <p:cNvPr id="90" name="PlaceHolder 2"/>
          <p:cNvSpPr>
            <a:spLocks noGrp="1"/>
          </p:cNvSpPr>
          <p:nvPr>
            <p:ph type="subTitle"/>
          </p:nvPr>
        </p:nvSpPr>
        <p:spPr>
          <a:xfrm>
            <a:off x="3200400" y="3885840"/>
            <a:ext cx="4191120" cy="7621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C Ilkka Siissalo</a:t>
            </a:r>
            <a:endParaRPr b="1" lang="en-US" sz="3200" spc="-1" strike="noStrike">
              <a:solidFill>
                <a:srgbClr val="660066"/>
              </a:solidFill>
              <a:latin typeface="Goudy Old Style"/>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lkka@lionnet.com</a:t>
            </a:r>
            <a:endParaRPr b="1" lang="en-US" sz="3200" spc="-1" strike="noStrike">
              <a:solidFill>
                <a:srgbClr val="660066"/>
              </a:solidFill>
              <a:latin typeface="Goudy Old Style"/>
            </a:endParaRPr>
          </a:p>
        </p:txBody>
      </p:sp>
      <p:pic>
        <p:nvPicPr>
          <p:cNvPr id="91" name="" descr=""/>
          <p:cNvPicPr/>
          <p:nvPr/>
        </p:nvPicPr>
        <p:blipFill>
          <a:blip r:embed="rId1"/>
          <a:stretch/>
        </p:blipFill>
        <p:spPr>
          <a:xfrm>
            <a:off x="5310360" y="5743440"/>
            <a:ext cx="3543120" cy="84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nd the bright future...</a:t>
            </a:r>
            <a:endParaRPr b="1" lang="en-US" sz="4400" spc="-1" strike="noStrike">
              <a:solidFill>
                <a:srgbClr val="ffffff"/>
              </a:solidFill>
              <a:latin typeface="Goudy Old Style"/>
            </a:endParaRPr>
          </a:p>
        </p:txBody>
      </p:sp>
      <p:sp>
        <p:nvSpPr>
          <p:cNvPr id="138" name="PlaceHolder 2"/>
          <p:cNvSpPr>
            <a:spLocks noGrp="1"/>
          </p:cNvSpPr>
          <p:nvPr>
            <p:ph type="subTitle"/>
          </p:nvPr>
        </p:nvSpPr>
        <p:spPr>
          <a:xfrm>
            <a:off x="609120" y="1676160"/>
            <a:ext cx="8153640" cy="38098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In 2-3 years from now:</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routine video online broadcasting of conventions</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aper forms are just an option</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members don’t need expert help in using the net</a:t>
            </a:r>
            <a:endParaRPr b="1" lang="en-US" sz="28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In 5-6 years:</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TV, video and Internet integration in daily or weekly lions use</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all</a:t>
            </a:r>
            <a:r>
              <a:rPr b="1" lang="en-US" sz="2800" spc="-1" strike="noStrike">
                <a:solidFill>
                  <a:srgbClr val="660066"/>
                </a:solidFill>
                <a:latin typeface="Goudy Old Style"/>
              </a:rPr>
              <a:t> clubs have somebody online</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o is your audience ?</a:t>
            </a:r>
            <a:endParaRPr b="1" lang="en-US" sz="4400" spc="-1" strike="noStrike">
              <a:solidFill>
                <a:srgbClr val="ffffff"/>
              </a:solidFill>
              <a:latin typeface="Goudy Old Style"/>
            </a:endParaRPr>
          </a:p>
        </p:txBody>
      </p:sp>
      <p:graphicFrame>
        <p:nvGraphicFramePr>
          <p:cNvPr id="140" name=""/>
          <p:cNvGraphicFramePr/>
          <p:nvPr/>
        </p:nvGraphicFramePr>
        <p:xfrm>
          <a:off x="838080" y="1371600"/>
          <a:ext cx="4888080" cy="4888080"/>
        </p:xfrm>
        <a:graphic>
          <a:graphicData uri="http://schemas.openxmlformats.org/presentationml/2006/ole">
            <p:oleObj r:id="rId1" spid="">
              <p:embed/>
              <p:pic>
                <p:nvPicPr>
                  <p:cNvPr id="141" name="" descr=""/>
                  <p:cNvPicPr/>
                  <p:nvPr/>
                </p:nvPicPr>
                <p:blipFill>
                  <a:blip r:embed="rId2"/>
                  <a:stretch/>
                </p:blipFill>
                <p:spPr>
                  <a:xfrm>
                    <a:off x="838080" y="1371600"/>
                    <a:ext cx="4888080" cy="4888080"/>
                  </a:xfrm>
                  <a:prstGeom prst="rect">
                    <a:avLst/>
                  </a:prstGeom>
                  <a:ln w="0">
                    <a:noFill/>
                  </a:ln>
                </p:spPr>
              </p:pic>
            </p:oleObj>
          </a:graphicData>
        </a:graphic>
      </p:graphicFrame>
      <p:pic>
        <p:nvPicPr>
          <p:cNvPr id="142" name="" descr=""/>
          <p:cNvPicPr/>
          <p:nvPr/>
        </p:nvPicPr>
        <p:blipFill>
          <a:blip r:embed="rId3"/>
          <a:stretch/>
        </p:blipFill>
        <p:spPr>
          <a:xfrm>
            <a:off x="2743200" y="3657600"/>
            <a:ext cx="1155600" cy="28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less fortunate ?</a:t>
            </a:r>
            <a:endParaRPr b="1" lang="en-US" sz="4400" spc="-1" strike="noStrike">
              <a:solidFill>
                <a:srgbClr val="ffffff"/>
              </a:solidFill>
              <a:latin typeface="Goudy Old Style"/>
            </a:endParaRPr>
          </a:p>
        </p:txBody>
      </p:sp>
      <p:sp>
        <p:nvSpPr>
          <p:cNvPr id="14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What about the less developed countries ?</a:t>
            </a:r>
            <a:endParaRPr b="1" lang="en-US" sz="32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Case LionNet Uganda: a Finn helps a Ugandan leo to build LN Uganda in California;   </a:t>
            </a:r>
            <a:r>
              <a:rPr b="1" lang="en-US" sz="2400" spc="-1" strike="noStrike" u="sng">
                <a:solidFill>
                  <a:srgbClr val="660066"/>
                </a:solidFill>
                <a:uFillTx/>
                <a:latin typeface="Goudy Old Style"/>
              </a:rPr>
              <a:t>Service can be anywhere</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Basic connectivity is needed. Where you have a decent phone line you got it.  - cases:  East Russia, Kenya, Palestine...</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Text, no video, no fancy pictures, no background music...</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Public Web kiosks, public web computers in libraries etc.</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Web on cable TV</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cellular &amp; satellite web</a:t>
            </a:r>
            <a:endParaRPr b="1" lang="en-US" sz="2400" spc="-1" strike="noStrike">
              <a:solidFill>
                <a:srgbClr val="660066"/>
              </a:solidFill>
              <a:latin typeface="Goudy Old Style"/>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Gold Rush</a:t>
            </a:r>
            <a:endParaRPr b="1" lang="en-US" sz="4400" spc="-1" strike="noStrike">
              <a:solidFill>
                <a:srgbClr val="ffffff"/>
              </a:solidFill>
              <a:latin typeface="Goudy Old Style"/>
            </a:endParaRPr>
          </a:p>
        </p:txBody>
      </p:sp>
      <p:pic>
        <p:nvPicPr>
          <p:cNvPr id="146" name="" descr=""/>
          <p:cNvPicPr/>
          <p:nvPr/>
        </p:nvPicPr>
        <p:blipFill>
          <a:blip r:embed="rId1"/>
          <a:stretch/>
        </p:blipFill>
        <p:spPr>
          <a:xfrm>
            <a:off x="762120" y="1600200"/>
            <a:ext cx="6489720" cy="501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Gold Rush</a:t>
            </a:r>
            <a:endParaRPr b="1" lang="en-US" sz="4400" spc="-1" strike="noStrike">
              <a:solidFill>
                <a:srgbClr val="ffffff"/>
              </a:solidFill>
              <a:latin typeface="Goudy Old Style"/>
            </a:endParaRPr>
          </a:p>
        </p:txBody>
      </p:sp>
      <p:sp>
        <p:nvSpPr>
          <p:cNvPr id="148" name="PlaceHolder 2"/>
          <p:cNvSpPr>
            <a:spLocks noGrp="1"/>
          </p:cNvSpPr>
          <p:nvPr>
            <p:ph type="subTitle"/>
          </p:nvPr>
        </p:nvSpPr>
        <p:spPr>
          <a:xfrm>
            <a:off x="685440" y="1676160"/>
            <a:ext cx="8381880" cy="38098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The backbone has to be there</a:t>
            </a:r>
            <a:r>
              <a:rPr b="1" lang="en-US" sz="3200" spc="-1" strike="noStrike">
                <a:solidFill>
                  <a:srgbClr val="660066"/>
                </a:solidFill>
                <a:latin typeface="Goudy Old Style"/>
              </a:rPr>
              <a:t>. Now ! </a:t>
            </a:r>
            <a:endParaRPr b="1" lang="en-US" sz="32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40+ million pages, 1000 Lions pages ? Talk about grains of gold sand in Sahara. How to find them all ?</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8 national nodes a year ago, 26 on Nov 1’st, 57 now...</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5-15 clubs are joining each week now. In 6 months it will be 20 a day.  Who is handling it ?  Who answers their questions ?   Who guides them ?</a:t>
            </a:r>
            <a:endParaRPr b="1" lang="en-US" sz="28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users are there</a:t>
            </a:r>
            <a:endParaRPr b="1" lang="en-US" sz="4400" spc="-1" strike="noStrike">
              <a:solidFill>
                <a:srgbClr val="ffffff"/>
              </a:solidFill>
              <a:latin typeface="Goudy Old Style"/>
            </a:endParaRPr>
          </a:p>
        </p:txBody>
      </p:sp>
      <p:sp>
        <p:nvSpPr>
          <p:cNvPr id="150" name="PlaceHolder 2"/>
          <p:cNvSpPr>
            <a:spLocks noGrp="1"/>
          </p:cNvSpPr>
          <p:nvPr>
            <p:ph type="subTitle"/>
          </p:nvPr>
        </p:nvSpPr>
        <p:spPr>
          <a:xfrm>
            <a:off x="685440" y="1676160"/>
            <a:ext cx="8381880" cy="38098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its peak 11 500 “reads” / mo to LN Finland</a:t>
            </a: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Net International is read 21 000 - 26 000 times a month</a:t>
            </a:r>
            <a:endParaRPr b="1" lang="en-US" sz="32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85% of users of Finnish pages are from abroad</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51" name=""/>
          <p:cNvGrpSpPr/>
          <p:nvPr/>
        </p:nvGrpSpPr>
        <p:grpSpPr>
          <a:xfrm>
            <a:off x="1440" y="119160"/>
            <a:ext cx="9142560" cy="6738840"/>
            <a:chOff x="1440" y="119160"/>
            <a:chExt cx="9142560" cy="6738840"/>
          </a:xfrm>
        </p:grpSpPr>
        <p:sp>
          <p:nvSpPr>
            <p:cNvPr id="152"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3"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4"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5"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6"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7"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8"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9"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0"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1"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62"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63" name=""/>
            <p:cNvGrpSpPr/>
            <p:nvPr/>
          </p:nvGrpSpPr>
          <p:grpSpPr>
            <a:xfrm>
              <a:off x="4540320" y="6672240"/>
              <a:ext cx="4332240" cy="65160"/>
              <a:chOff x="4540320" y="6672240"/>
              <a:chExt cx="4332240" cy="65160"/>
            </a:xfrm>
          </p:grpSpPr>
          <p:sp>
            <p:nvSpPr>
              <p:cNvPr id="164"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5"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6"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7"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8"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9"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70"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71"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72"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173" name=""/>
            <p:cNvGrpSpPr/>
            <p:nvPr/>
          </p:nvGrpSpPr>
          <p:grpSpPr>
            <a:xfrm>
              <a:off x="1440" y="3695760"/>
              <a:ext cx="1909800" cy="1909800"/>
              <a:chOff x="1440" y="3695760"/>
              <a:chExt cx="1909800" cy="1909800"/>
            </a:xfrm>
          </p:grpSpPr>
          <p:sp>
            <p:nvSpPr>
              <p:cNvPr id="174"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75"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76"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177"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LionNet - voluntary cooperation</a:t>
            </a:r>
            <a:endParaRPr b="1" lang="en-US" sz="4400" spc="-1" strike="noStrike">
              <a:solidFill>
                <a:srgbClr val="ffffff"/>
              </a:solidFill>
              <a:latin typeface="Goudy Old Style"/>
            </a:endParaRPr>
          </a:p>
        </p:txBody>
      </p:sp>
      <p:sp>
        <p:nvSpPr>
          <p:cNvPr id="17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ructure, order and brand name for the lions web</a:t>
            </a:r>
            <a:endParaRPr b="1" lang="en-US" sz="3200" spc="-1" strike="noStrike">
              <a:solidFill>
                <a:srgbClr val="660066"/>
              </a:solidFill>
              <a:latin typeface="Goudy Old Style"/>
            </a:endParaRPr>
          </a:p>
        </p:txBody>
      </p:sp>
      <p:pic>
        <p:nvPicPr>
          <p:cNvPr id="179" name="" descr=""/>
          <p:cNvPicPr/>
          <p:nvPr/>
        </p:nvPicPr>
        <p:blipFill>
          <a:blip r:embed="rId1"/>
          <a:stretch/>
        </p:blipFill>
        <p:spPr>
          <a:xfrm>
            <a:off x="5310360" y="5743440"/>
            <a:ext cx="3543120" cy="847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hierarchy</a:t>
            </a:r>
            <a:endParaRPr b="1" lang="en-US" sz="4400" spc="-1" strike="noStrike">
              <a:solidFill>
                <a:srgbClr val="ffffff"/>
              </a:solidFill>
              <a:latin typeface="Goudy Old Style"/>
            </a:endParaRPr>
          </a:p>
        </p:txBody>
      </p:sp>
      <p:sp>
        <p:nvSpPr>
          <p:cNvPr id="18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International main directory - LionNet International</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national level - e.g. LionNet Switzerland / Liechtenstein</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istrict level - district Internet council &amp; DC</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club level - website &amp; club webmaster</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ersonal level - personal homepages</a:t>
            </a:r>
            <a:endParaRPr b="1" lang="en-US" sz="2800" spc="-1" strike="noStrike">
              <a:solidFill>
                <a:srgbClr val="660066"/>
              </a:solidFill>
              <a:latin typeface="Goudy Old Styl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hierarchy</a:t>
            </a:r>
            <a:endParaRPr b="1" lang="en-US" sz="4400" spc="-1" strike="noStrike">
              <a:solidFill>
                <a:srgbClr val="ffffff"/>
              </a:solidFill>
              <a:latin typeface="Goudy Old Style"/>
            </a:endParaRPr>
          </a:p>
        </p:txBody>
      </p:sp>
      <p:pic>
        <p:nvPicPr>
          <p:cNvPr id="183" name="" descr=""/>
          <p:cNvPicPr/>
          <p:nvPr/>
        </p:nvPicPr>
        <p:blipFill>
          <a:blip r:embed="rId1"/>
          <a:stretch/>
        </p:blipFill>
        <p:spPr>
          <a:xfrm>
            <a:off x="642960" y="-9360"/>
            <a:ext cx="7870680" cy="6889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oudy Old Style"/>
              </a:rPr>
              <a:t>How this will change communications within the Association ?</a:t>
            </a:r>
            <a:endParaRPr b="1" lang="en-US" sz="2800" spc="-1" strike="noStrike">
              <a:solidFill>
                <a:srgbClr val="ffffff"/>
              </a:solidFill>
              <a:latin typeface="Goudy Old Style"/>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asically it won’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ut it makes things far quick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e world will get small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rganizational work will become easi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ur helping hand reaches further</a:t>
            </a:r>
            <a:endParaRPr b="1" lang="en-US" sz="3200" spc="-1" strike="noStrike">
              <a:solidFill>
                <a:srgbClr val="660066"/>
              </a:solidFill>
              <a:latin typeface="Goudy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0066"/>
              </a:solidFill>
              <a:latin typeface="Goudy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0066"/>
              </a:solidFill>
              <a:latin typeface="Goudy Old Sty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a:t>
            </a:r>
            <a:endParaRPr b="1" lang="en-US" sz="4400" spc="-1" strike="noStrike">
              <a:solidFill>
                <a:srgbClr val="ffffff"/>
              </a:solidFill>
              <a:latin typeface="Goudy Old Style"/>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aybe 120+ million user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40+ million page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nteractive, two-way medium</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ast, reliabl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nobody owns, nobody controls</a:t>
            </a:r>
            <a:endParaRPr b="1" lang="en-US" sz="3200" spc="-1" strike="noStrike">
              <a:solidFill>
                <a:srgbClr val="660066"/>
              </a:solidFill>
              <a:latin typeface="Goudy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86" name=""/>
          <p:cNvGrpSpPr/>
          <p:nvPr/>
        </p:nvGrpSpPr>
        <p:grpSpPr>
          <a:xfrm>
            <a:off x="1440" y="119160"/>
            <a:ext cx="9142560" cy="6738840"/>
            <a:chOff x="1440" y="119160"/>
            <a:chExt cx="9142560" cy="6738840"/>
          </a:xfrm>
        </p:grpSpPr>
        <p:sp>
          <p:nvSpPr>
            <p:cNvPr id="187"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8"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9"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0"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1"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2"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3"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4"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5"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6"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97"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98" name=""/>
            <p:cNvGrpSpPr/>
            <p:nvPr/>
          </p:nvGrpSpPr>
          <p:grpSpPr>
            <a:xfrm>
              <a:off x="4540320" y="6672240"/>
              <a:ext cx="4332240" cy="65160"/>
              <a:chOff x="4540320" y="6672240"/>
              <a:chExt cx="4332240" cy="65160"/>
            </a:xfrm>
          </p:grpSpPr>
          <p:sp>
            <p:nvSpPr>
              <p:cNvPr id="199"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0"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1"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2"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3"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4"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5"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6"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207"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208" name=""/>
            <p:cNvGrpSpPr/>
            <p:nvPr/>
          </p:nvGrpSpPr>
          <p:grpSpPr>
            <a:xfrm>
              <a:off x="1440" y="3695760"/>
              <a:ext cx="1909800" cy="1909800"/>
              <a:chOff x="1440" y="3695760"/>
              <a:chExt cx="1909800" cy="1909800"/>
            </a:xfrm>
          </p:grpSpPr>
          <p:sp>
            <p:nvSpPr>
              <p:cNvPr id="209"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210"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211"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212"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ow to get started ?</a:t>
            </a:r>
            <a:endParaRPr b="1" lang="en-US" sz="4400" spc="-1" strike="noStrike">
              <a:solidFill>
                <a:srgbClr val="ffffff"/>
              </a:solidFill>
              <a:latin typeface="Goudy Old Style"/>
            </a:endParaRPr>
          </a:p>
        </p:txBody>
      </p:sp>
      <p:sp>
        <p:nvSpPr>
          <p:cNvPr id="213" name="PlaceHolder 2"/>
          <p:cNvSpPr>
            <a:spLocks noGrp="1"/>
          </p:cNvSpPr>
          <p:nvPr>
            <p:ph type="subTitle"/>
          </p:nvPr>
        </p:nvSpPr>
        <p:spPr>
          <a:xfrm>
            <a:off x="2057040" y="3580920"/>
            <a:ext cx="6705720" cy="8384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ips, tricks, pitfalls</a:t>
            </a:r>
            <a:endParaRPr b="1" lang="en-US" sz="3200" spc="-1" strike="noStrike">
              <a:solidFill>
                <a:srgbClr val="660066"/>
              </a:solidFill>
              <a:latin typeface="Goudy Old Style"/>
            </a:endParaRPr>
          </a:p>
        </p:txBody>
      </p:sp>
      <p:pic>
        <p:nvPicPr>
          <p:cNvPr id="214" name="" descr=""/>
          <p:cNvPicPr/>
          <p:nvPr/>
        </p:nvPicPr>
        <p:blipFill>
          <a:blip r:embed="rId1"/>
          <a:stretch/>
        </p:blipFill>
        <p:spPr>
          <a:xfrm>
            <a:off x="5257800" y="5638680"/>
            <a:ext cx="3565440" cy="870120"/>
          </a:xfrm>
          <a:prstGeom prst="rect">
            <a:avLst/>
          </a:prstGeom>
          <a:ln w="0">
            <a:noFill/>
          </a:ln>
        </p:spPr>
      </p:pic>
      <p:pic>
        <p:nvPicPr>
          <p:cNvPr id="215" name="" descr=""/>
          <p:cNvPicPr/>
          <p:nvPr/>
        </p:nvPicPr>
        <p:blipFill>
          <a:blip r:embed="rId2"/>
          <a:stretch/>
        </p:blipFill>
        <p:spPr>
          <a:xfrm>
            <a:off x="7238880" y="533520"/>
            <a:ext cx="1384560" cy="1049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at do you need ?</a:t>
            </a:r>
            <a:endParaRPr b="1" lang="en-US" sz="4400" spc="-1" strike="noStrike">
              <a:solidFill>
                <a:srgbClr val="ffffff"/>
              </a:solidFill>
              <a:latin typeface="Goudy Old Style"/>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 member with a computer</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eans to connect to the Internet</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nd server space</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earn a little HTML to make the pages</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ake them, take part in discussions…</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Update !!</a:t>
            </a:r>
            <a:endParaRPr b="1" lang="en-US" sz="3200" spc="-1" strike="noStrike">
              <a:solidFill>
                <a:srgbClr val="660066"/>
              </a:solidFill>
              <a:latin typeface="Goudy Old Styl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Cost</a:t>
            </a:r>
            <a:endParaRPr b="1" lang="en-US" sz="4400" spc="-1" strike="noStrike">
              <a:solidFill>
                <a:srgbClr val="ffffff"/>
              </a:solidFill>
              <a:latin typeface="Goudy Old Style"/>
            </a:endParaRPr>
          </a:p>
        </p:txBody>
      </p:sp>
      <p:sp>
        <p:nvSpPr>
          <p:cNvPr id="21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st - </a:t>
            </a:r>
            <a:r>
              <a:rPr b="1" lang="en-US" sz="3200" spc="-1" strike="noStrike" u="sng">
                <a:solidFill>
                  <a:srgbClr val="660066"/>
                </a:solidFill>
                <a:uFillTx/>
                <a:latin typeface="Goudy Old Style"/>
              </a:rPr>
              <a:t>What</a:t>
            </a:r>
            <a:r>
              <a:rPr b="1" lang="en-US" sz="3200" spc="-1" strike="noStrike">
                <a:solidFill>
                  <a:srgbClr val="660066"/>
                </a:solidFill>
                <a:latin typeface="Goudy Old Style"/>
              </a:rPr>
              <a:t> cost ???</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So far we have not spent a penny !</a:t>
            </a:r>
            <a:endParaRPr b="1" lang="en-US" sz="3200" spc="-1" strike="noStrike">
              <a:solidFill>
                <a:srgbClr val="660066"/>
              </a:solidFill>
              <a:latin typeface="Goudy Old Style"/>
            </a:endParaRPr>
          </a:p>
          <a:p>
            <a:pPr lvl="1" marL="698400" indent="-26856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sponsors</a:t>
            </a:r>
            <a:endParaRPr b="1" lang="en-US" sz="24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nnectivity costs something</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rver space can be gotten free of charge</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xpensive programs are not needed</a:t>
            </a:r>
            <a:endParaRPr b="1" lang="en-US" sz="3200" spc="-1" strike="noStrike">
              <a:solidFill>
                <a:srgbClr val="660066"/>
              </a:solidFill>
              <a:latin typeface="Goudy Old Style"/>
            </a:endParaRPr>
          </a:p>
          <a:p>
            <a:pPr lvl="1" marL="698400" indent="-26856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they may make page design easier though</a:t>
            </a:r>
            <a:endParaRPr b="1" lang="en-US" sz="2400" spc="-1" strike="noStrike">
              <a:solidFill>
                <a:srgbClr val="660066"/>
              </a:solidFill>
              <a:latin typeface="Goudy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ow to make pages ?</a:t>
            </a:r>
            <a:endParaRPr b="1" lang="en-US" sz="4400" spc="-1" strike="noStrike">
              <a:solidFill>
                <a:srgbClr val="ffffff"/>
              </a:solidFill>
              <a:latin typeface="Goudy Old Style"/>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eb pages are text + HTML commands</a:t>
            </a:r>
            <a:endParaRPr b="1" lang="en-US" sz="32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takes about 2 hours to learn</a:t>
            </a:r>
            <a:endParaRPr b="1" lang="en-US" sz="3200" spc="-1" strike="noStrike">
              <a:solidFill>
                <a:srgbClr val="660066"/>
              </a:solidFill>
              <a:latin typeface="Goudy Old Style"/>
            </a:endParaRPr>
          </a:p>
          <a:p>
            <a:pPr marL="335880" indent="-335880">
              <a:spcBef>
                <a:spcPts val="799"/>
              </a:spcBef>
              <a:buClr>
                <a:srgbClr val="ff993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Goudy Old Style"/>
              </a:rPr>
              <a:t>“</a:t>
            </a:r>
            <a:r>
              <a:rPr b="1" lang="en-US" sz="3200" spc="-1" strike="noStrike">
                <a:solidFill>
                  <a:srgbClr val="ff9933"/>
                </a:solidFill>
                <a:latin typeface="Goudy Old Style"/>
              </a:rPr>
              <a:t>copy, borrow, steal,  -  modify beyond recognition”</a:t>
            </a:r>
            <a:endParaRPr b="1" lang="en-US" sz="3200" spc="-1" strike="noStrike">
              <a:solidFill>
                <a:srgbClr val="660066"/>
              </a:solidFill>
              <a:latin typeface="Goudy Old Style"/>
            </a:endParaRPr>
          </a:p>
          <a:p>
            <a:pPr lvl="1" marL="727920" indent="-280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take some existing page as a basis and modify it</a:t>
            </a:r>
            <a:endParaRPr b="1" lang="en-US" sz="2800" spc="-1" strike="noStrike">
              <a:solidFill>
                <a:srgbClr val="660066"/>
              </a:solidFill>
              <a:latin typeface="Goudy Old Style"/>
            </a:endParaRPr>
          </a:p>
          <a:p>
            <a:pPr lvl="1" marL="727920" indent="-280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read LionNet “Webpage help”</a:t>
            </a:r>
            <a:endParaRPr b="1" lang="en-US" sz="2800" spc="-1" strike="noStrike">
              <a:solidFill>
                <a:srgbClr val="660066"/>
              </a:solidFill>
              <a:latin typeface="Goudy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Prototype club page - </a:t>
            </a:r>
            <a:r>
              <a:rPr b="1" lang="en-US" sz="3200" spc="-1" strike="noStrike" u="sng">
                <a:solidFill>
                  <a:srgbClr val="660066"/>
                </a:solidFill>
                <a:uFillTx/>
                <a:latin typeface="Goudy Old Style"/>
              </a:rPr>
              <a:t>take it &amp; modify</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nnotated HTML guid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ep by step guid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nks to other resources</a:t>
            </a:r>
            <a:endParaRPr b="1" lang="en-US" sz="3200" spc="-1" strike="noStrike">
              <a:solidFill>
                <a:srgbClr val="660066"/>
              </a:solidFill>
              <a:latin typeface="Goudy Old Style"/>
            </a:endParaRPr>
          </a:p>
          <a:p>
            <a:pPr lvl="1" marL="743040" indent="-28584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where to find server space ?</a:t>
            </a:r>
            <a:endParaRPr b="1" lang="en-US" sz="2400" spc="-1" strike="noStrike">
              <a:solidFill>
                <a:srgbClr val="660066"/>
              </a:solidFill>
              <a:latin typeface="Goudy Old Style"/>
            </a:endParaRPr>
          </a:p>
          <a:p>
            <a:pPr lvl="1" marL="743040" indent="-28584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Beginner’s guide to HTML</a:t>
            </a:r>
            <a:endParaRPr b="1" lang="en-US" sz="2400" spc="-1" strike="noStrike">
              <a:solidFill>
                <a:srgbClr val="660066"/>
              </a:solidFill>
              <a:latin typeface="Goudy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pic>
        <p:nvPicPr>
          <p:cNvPr id="225" name="" descr=""/>
          <p:cNvPicPr/>
          <p:nvPr/>
        </p:nvPicPr>
        <p:blipFill>
          <a:blip r:embed="rId1"/>
          <a:stretch/>
        </p:blipFill>
        <p:spPr>
          <a:xfrm>
            <a:off x="642960" y="166680"/>
            <a:ext cx="7870680" cy="6537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pic>
        <p:nvPicPr>
          <p:cNvPr id="227" name="" descr=""/>
          <p:cNvPicPr/>
          <p:nvPr/>
        </p:nvPicPr>
        <p:blipFill>
          <a:blip r:embed="rId1"/>
          <a:stretch/>
        </p:blipFill>
        <p:spPr>
          <a:xfrm>
            <a:off x="252360" y="71280"/>
            <a:ext cx="8651880" cy="672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ommercial programs</a:t>
            </a:r>
            <a:endParaRPr b="1" lang="en-US" sz="4400" spc="-1" strike="noStrike">
              <a:solidFill>
                <a:srgbClr val="ffffff"/>
              </a:solidFill>
              <a:latin typeface="Goudy Old Style"/>
            </a:endParaRPr>
          </a:p>
        </p:txBody>
      </p:sp>
      <p:sp>
        <p:nvSpPr>
          <p:cNvPr id="22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ere are many good commercial programs for quick web page design</a:t>
            </a:r>
            <a:endParaRPr b="1" lang="en-US" sz="3200" spc="-1" strike="noStrike">
              <a:solidFill>
                <a:srgbClr val="660066"/>
              </a:solidFill>
              <a:latin typeface="Goudy Old Style"/>
            </a:endParaRPr>
          </a:p>
          <a:p>
            <a:pPr lvl="1" marL="727920" indent="-28008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Microsoft Frontpage, Netscape Gold…</a:t>
            </a:r>
            <a:endParaRPr b="1" lang="en-US" sz="24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st typically 100-300 USD</a:t>
            </a:r>
            <a:endParaRPr b="1" lang="en-US" sz="3200" spc="-1" strike="noStrike">
              <a:solidFill>
                <a:srgbClr val="660066"/>
              </a:solidFill>
              <a:latin typeface="Goudy Old Style"/>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still </a:t>
            </a:r>
            <a:r>
              <a:rPr b="1" lang="en-US" sz="3200" spc="-1" strike="noStrike" u="sng">
                <a:solidFill>
                  <a:srgbClr val="660066"/>
                </a:solidFill>
                <a:uFillTx/>
                <a:latin typeface="Goudy Old Style"/>
              </a:rPr>
              <a:t>have to learn</a:t>
            </a:r>
            <a:r>
              <a:rPr b="1" lang="en-US" sz="3200" spc="-1" strike="noStrike">
                <a:solidFill>
                  <a:srgbClr val="660066"/>
                </a:solidFill>
                <a:latin typeface="Goudy Old Style"/>
              </a:rPr>
              <a:t> basics of HTML !</a:t>
            </a:r>
            <a:endParaRPr b="1" lang="en-US" sz="3200" spc="-1" strike="noStrike">
              <a:solidFill>
                <a:srgbClr val="660066"/>
              </a:solidFill>
              <a:latin typeface="Goudy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Keep it simple !</a:t>
            </a:r>
            <a:endParaRPr b="1" lang="en-US" sz="4400" spc="-1" strike="noStrike">
              <a:solidFill>
                <a:srgbClr val="ffffff"/>
              </a:solidFill>
              <a:latin typeface="Goudy Old Style"/>
            </a:endParaRPr>
          </a:p>
        </p:txBody>
      </p:sp>
      <p:sp>
        <p:nvSpPr>
          <p:cNvPr id="231" name="PlaceHolder 2"/>
          <p:cNvSpPr>
            <a:spLocks noGrp="1"/>
          </p:cNvSpPr>
          <p:nvPr>
            <p:ph/>
          </p:nvPr>
        </p:nvSpPr>
        <p:spPr>
          <a:xfrm>
            <a:off x="762120" y="1905120"/>
            <a:ext cx="7696080" cy="4114800"/>
          </a:xfrm>
          <a:prstGeom prst="rect">
            <a:avLst/>
          </a:prstGeom>
          <a:noFill/>
          <a:ln w="0">
            <a:noFill/>
          </a:ln>
        </p:spPr>
        <p:txBody>
          <a:bodyPr lIns="92160" rIns="92160" tIns="46080" bIns="46080" anchor="t">
            <a:normAutofit fontScale="98000"/>
          </a:bodyPr>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Just text with some small graphic elements comes through always</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Use same graphic element repeatedly - it’s loaded just once</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Avoid frames, avoid video, avoid animations</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A graphic element does not have to have 16,7 million colours - 4 or 16 is enough</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Keep it simple !</a:t>
            </a:r>
            <a:endParaRPr b="1" lang="en-US" sz="4400" spc="-1" strike="noStrike">
              <a:solidFill>
                <a:srgbClr val="ffffff"/>
              </a:solidFill>
              <a:latin typeface="Goudy Old Style"/>
            </a:endParaRPr>
          </a:p>
        </p:txBody>
      </p:sp>
      <p:pic>
        <p:nvPicPr>
          <p:cNvPr id="233" name="" descr=""/>
          <p:cNvPicPr/>
          <p:nvPr/>
        </p:nvPicPr>
        <p:blipFill>
          <a:blip r:embed="rId1"/>
          <a:stretch/>
        </p:blipFill>
        <p:spPr>
          <a:xfrm>
            <a:off x="642960" y="-9360"/>
            <a:ext cx="7870680" cy="688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Why ?</a:t>
            </a:r>
            <a:endParaRPr b="1" lang="en-US" sz="4400" spc="-1" strike="noStrike">
              <a:solidFill>
                <a:srgbClr val="ffffff"/>
              </a:solidFill>
              <a:latin typeface="Goudy Old Style"/>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Everybody is joining the Internet because everybody is joining the Interne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heap</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asy to us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vailable almost everywher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andard</a:t>
            </a:r>
            <a:endParaRPr b="1" lang="en-US" sz="3200" spc="-1" strike="noStrike">
              <a:solidFill>
                <a:srgbClr val="660066"/>
              </a:solidFill>
              <a:latin typeface="Goudy Old Styl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Careful with copyrights</a:t>
            </a:r>
            <a:r>
              <a:rPr b="1" lang="en-US" sz="4400" spc="-1" strike="noStrike">
                <a:solidFill>
                  <a:srgbClr val="660066"/>
                </a:solidFill>
                <a:latin typeface="Goudy Old Style"/>
              </a:rPr>
              <a:t> !!!!</a:t>
            </a:r>
            <a:endParaRPr b="1" lang="en-US" sz="4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CI copyrights</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ionNet International copyrights</a:t>
            </a:r>
            <a:endParaRPr b="1" lang="en-US" sz="2800" spc="-1" strike="noStrike">
              <a:solidFill>
                <a:srgbClr val="660066"/>
              </a:solidFill>
              <a:latin typeface="Goudy Old Style"/>
            </a:endParaRPr>
          </a:p>
          <a:p>
            <a:pPr lvl="2" marL="1143000" indent="-228600">
              <a:spcBef>
                <a:spcPts val="601"/>
              </a:spcBef>
              <a:buClr>
                <a:srgbClr val="660066"/>
              </a:buClr>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read www.lionnet.com/copyright.html</a:t>
            </a:r>
            <a:endParaRPr b="1" lang="en-US" sz="2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music copyrights</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esign copyrights</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Keep front page neat and clean</a:t>
            </a:r>
            <a:endParaRPr b="1" lang="en-US" sz="4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your front page is your main menu</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hoto collections etc. to subpages</a:t>
            </a:r>
            <a:endParaRPr b="1" lang="en-US" sz="2800" spc="-1" strike="noStrike">
              <a:solidFill>
                <a:srgbClr val="660066"/>
              </a:solidFill>
              <a:latin typeface="Goudy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nsider who is going to read your page</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ic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beautiful.</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has animation and background music.</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ther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Does it say anything</a:t>
            </a:r>
            <a:r>
              <a:rPr b="1" lang="en-US" sz="3200" spc="-1" strike="noStrike">
                <a:solidFill>
                  <a:srgbClr val="660066"/>
                </a:solidFill>
                <a:latin typeface="Goudy Old Style"/>
              </a:rPr>
              <a:t> ???</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elp people help themselves</a:t>
            </a:r>
            <a:endParaRPr b="1" lang="en-US" sz="4400" spc="-1" strike="noStrike">
              <a:solidFill>
                <a:srgbClr val="ffffff"/>
              </a:solidFill>
              <a:latin typeface="Goudy Old Style"/>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cussion forum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orum for unemployed to find a job</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rug awareness site - Questions &amp; Answer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tance learning material, video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abled webmasters building special service sites for the disabled</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 who is caring for it ?</a:t>
            </a:r>
            <a:endParaRPr b="1" lang="en-US" sz="4400" spc="-1" strike="noStrike">
              <a:solidFill>
                <a:srgbClr val="ffffff"/>
              </a:solidFill>
              <a:latin typeface="Goudy Old Style"/>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ften pages are made by just one person</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if he loses interest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reate a working group, council, group of editors, whatever…</a:t>
            </a:r>
            <a:endParaRPr b="1" lang="en-US" sz="3200" spc="-1" strike="noStrike">
              <a:solidFill>
                <a:srgbClr val="660066"/>
              </a:solidFill>
              <a:latin typeface="Goudy Old Style"/>
            </a:endParaRPr>
          </a:p>
          <a:p>
            <a:pPr marL="343080" indent="-343080">
              <a:spcBef>
                <a:spcPts val="10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0066"/>
                </a:solidFill>
                <a:uFillTx/>
                <a:latin typeface="Goudy Old Style"/>
              </a:rPr>
              <a:t>This is not a one-man world war !</a:t>
            </a:r>
            <a:endParaRPr b="1" lang="en-US" sz="40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y will hate you if...</a:t>
            </a:r>
            <a:endParaRPr b="1" lang="en-US" sz="4400" spc="-1" strike="noStrike">
              <a:solidFill>
                <a:srgbClr val="ffffff"/>
              </a:solidFill>
              <a:latin typeface="Goudy Old Style"/>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ask money for help</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spam”, or send bulk advertisement e-mail to anybody and everybody</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use discussion forums for selling thing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on’t keep your links working</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Why should they ever come back ?</a:t>
            </a:r>
            <a:endParaRPr b="1" lang="en-US" sz="4000" spc="-1" strike="noStrike">
              <a:solidFill>
                <a:srgbClr val="ffffff"/>
              </a:solidFill>
              <a:latin typeface="Goudy Old Style"/>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is the reason that </a:t>
            </a:r>
            <a:r>
              <a:rPr b="1" lang="en-US" sz="3200" spc="-1" strike="noStrike" u="sng">
                <a:solidFill>
                  <a:srgbClr val="660066"/>
                </a:solidFill>
                <a:uFillTx/>
                <a:latin typeface="Goudy Old Style"/>
              </a:rPr>
              <a:t>you</a:t>
            </a:r>
            <a:r>
              <a:rPr b="1" lang="en-US" sz="3200" spc="-1" strike="noStrike">
                <a:solidFill>
                  <a:srgbClr val="660066"/>
                </a:solidFill>
                <a:latin typeface="Goudy Old Style"/>
              </a:rPr>
              <a:t> give to people to </a:t>
            </a:r>
            <a:r>
              <a:rPr b="1" lang="en-US" sz="3200" spc="-1" strike="noStrike" u="sng">
                <a:solidFill>
                  <a:srgbClr val="660066"/>
                </a:solidFill>
                <a:uFillTx/>
                <a:latin typeface="Goudy Old Style"/>
              </a:rPr>
              <a:t>come back</a:t>
            </a:r>
            <a:r>
              <a:rPr b="1" lang="en-US" sz="3200" spc="-1" strike="noStrike">
                <a:solidFill>
                  <a:srgbClr val="660066"/>
                </a:solidFill>
                <a:latin typeface="Goudy Old Style"/>
              </a:rPr>
              <a:t> to your pages ?</a:t>
            </a:r>
            <a:endParaRPr b="1" lang="en-US" sz="3200" spc="-1" strike="noStrike">
              <a:solidFill>
                <a:srgbClr val="660066"/>
              </a:solidFill>
              <a:latin typeface="Goudy Old Style"/>
            </a:endParaRPr>
          </a:p>
          <a:p>
            <a:pPr marL="315360" indent="-315360">
              <a:spcBef>
                <a:spcPts val="10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0066"/>
                </a:solidFill>
                <a:uFillTx/>
                <a:latin typeface="Goudy Old Style"/>
              </a:rPr>
              <a:t>Update, update, update !</a:t>
            </a:r>
            <a:endParaRPr b="1" lang="en-US" sz="40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inks list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what’s new list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iscussion forum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rogress of activity</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cartoon of the day...</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How do they find you ?</a:t>
            </a:r>
            <a:endParaRPr b="1" lang="en-US" sz="4000" spc="-1" strike="noStrike">
              <a:solidFill>
                <a:srgbClr val="ffffff"/>
              </a:solidFill>
              <a:latin typeface="Goudy Old Style"/>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makes your page stand up from the 40+ million other pages ?</a:t>
            </a:r>
            <a:endParaRPr b="1" lang="en-US" sz="32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List it on LionNet</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General purpose web search tools</a:t>
            </a:r>
            <a:endParaRPr b="1" lang="en-US" sz="2800" spc="-1" strike="noStrike">
              <a:solidFill>
                <a:srgbClr val="660066"/>
              </a:solidFill>
              <a:latin typeface="Goudy Old Style"/>
            </a:endParaRPr>
          </a:p>
          <a:p>
            <a:pPr lvl="2" marL="1143000" indent="-228600">
              <a:spcBef>
                <a:spcPts val="601"/>
              </a:spcBef>
              <a:buClr>
                <a:srgbClr val="660066"/>
              </a:buClr>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Yahoo, Alta Vista, webcrawler…</a:t>
            </a:r>
            <a:endParaRPr b="1" lang="en-US" sz="2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be active on the mailing lists !</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Summa summarum</a:t>
            </a:r>
            <a:endParaRPr b="1" lang="en-US" sz="4000" spc="-1" strike="noStrike">
              <a:solidFill>
                <a:srgbClr val="ffffff"/>
              </a:solidFill>
              <a:latin typeface="Goudy Old Style"/>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expensiv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difficul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dangerou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is worth i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great fun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takes your whole life...</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at do we use it for ?</a:t>
            </a:r>
            <a:endParaRPr b="1" lang="en-US" sz="4400" spc="-1" strike="noStrike">
              <a:solidFill>
                <a:srgbClr val="ffffff"/>
              </a:solidFill>
              <a:latin typeface="Goudy Old Style"/>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electronic supplement of ‘The Lion’”</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ne to one, one to many </a:t>
            </a:r>
            <a:r>
              <a:rPr b="1" lang="en-US" sz="3200" spc="-1" strike="noStrike" u="sng">
                <a:solidFill>
                  <a:srgbClr val="660066"/>
                </a:solidFill>
                <a:uFillTx/>
                <a:latin typeface="Goudy Old Style"/>
              </a:rPr>
              <a:t>e-mail</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cussion board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ll-in form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al-time meetings, video conferences</a:t>
            </a:r>
            <a:endParaRPr b="1" lang="en-US" sz="3200" spc="-1" strike="noStrike">
              <a:solidFill>
                <a:srgbClr val="660066"/>
              </a:solidFill>
              <a:latin typeface="Goudy Old Styl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y ?</a:t>
            </a:r>
            <a:endParaRPr b="1" lang="en-US" sz="4400" spc="-1" strike="noStrike">
              <a:solidFill>
                <a:srgbClr val="ffffff"/>
              </a:solidFill>
              <a:latin typeface="Goudy Old Style"/>
            </a:endParaRPr>
          </a:p>
        </p:txBody>
      </p:sp>
      <p:sp>
        <p:nvSpPr>
          <p:cNvPr id="9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ye clinic in Malays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oy from Croat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 from Canad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s forms from Africa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porting activity results in Scandinav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riends from who knows where ?</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Scandinavian Red Feather</a:t>
            </a:r>
            <a:endParaRPr b="1" lang="en-US" sz="4400" spc="-1" strike="noStrike">
              <a:solidFill>
                <a:srgbClr val="ffffff"/>
              </a:solidFill>
              <a:latin typeface="Goudy Old Style"/>
            </a:endParaRPr>
          </a:p>
        </p:txBody>
      </p:sp>
      <p:pic>
        <p:nvPicPr>
          <p:cNvPr id="101" name="" descr=""/>
          <p:cNvPicPr/>
          <p:nvPr/>
        </p:nvPicPr>
        <p:blipFill>
          <a:blip r:embed="rId1"/>
          <a:stretch/>
        </p:blipFill>
        <p:spPr>
          <a:xfrm>
            <a:off x="1371600" y="1676520"/>
            <a:ext cx="3035160" cy="4546440"/>
          </a:xfrm>
          <a:prstGeom prst="rect">
            <a:avLst/>
          </a:prstGeom>
          <a:ln w="0">
            <a:noFill/>
          </a:ln>
        </p:spPr>
      </p:pic>
      <p:sp>
        <p:nvSpPr>
          <p:cNvPr id="102" name=""/>
          <p:cNvSpPr/>
          <p:nvPr/>
        </p:nvSpPr>
        <p:spPr>
          <a:xfrm>
            <a:off x="4495680" y="1676520"/>
            <a:ext cx="441972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o improve the quality of life,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ealth and safety of the elderly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means of local activitie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donating money to organization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upporting war veteran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nd the elderly and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appointing money toward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argets that they specify</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oudy Old Style"/>
              </a:rPr>
              <a:t>Why?… Personal contact with the unknown friend</a:t>
            </a:r>
            <a:endParaRPr b="1" lang="en-US" sz="2800" spc="-1" strike="noStrike">
              <a:solidFill>
                <a:srgbClr val="ffffff"/>
              </a:solidFill>
              <a:latin typeface="Goudy Old Style"/>
            </a:endParaRPr>
          </a:p>
        </p:txBody>
      </p:sp>
      <p:sp>
        <p:nvSpPr>
          <p:cNvPr id="10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i, I’m coming to holiday in XYZ…”</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 </a:t>
            </a:r>
            <a:r>
              <a:rPr b="1" lang="en-US" sz="3200" spc="-1" strike="noStrike">
                <a:solidFill>
                  <a:srgbClr val="660066"/>
                </a:solidFill>
                <a:latin typeface="Goudy Old Style"/>
              </a:rPr>
              <a:t>My father’s lions friend in Korea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ow do I become a lion in UAE?”</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i there, got any old spectacles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Cheers. You wanna do club twinning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Do you have eskimos and polar bears in Finland?”</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05" name=""/>
          <p:cNvGrpSpPr/>
          <p:nvPr/>
        </p:nvGrpSpPr>
        <p:grpSpPr>
          <a:xfrm>
            <a:off x="1440" y="119160"/>
            <a:ext cx="9142560" cy="6738840"/>
            <a:chOff x="1440" y="119160"/>
            <a:chExt cx="9142560" cy="6738840"/>
          </a:xfrm>
        </p:grpSpPr>
        <p:sp>
          <p:nvSpPr>
            <p:cNvPr id="106"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7"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8"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09"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0"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1"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2"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3"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4"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5"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16"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17" name=""/>
            <p:cNvGrpSpPr/>
            <p:nvPr/>
          </p:nvGrpSpPr>
          <p:grpSpPr>
            <a:xfrm>
              <a:off x="4540320" y="6672240"/>
              <a:ext cx="4332240" cy="65160"/>
              <a:chOff x="4540320" y="6672240"/>
              <a:chExt cx="4332240" cy="65160"/>
            </a:xfrm>
          </p:grpSpPr>
          <p:sp>
            <p:nvSpPr>
              <p:cNvPr id="118"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9"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0"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1"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2"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3"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4"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5"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26"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127" name=""/>
            <p:cNvGrpSpPr/>
            <p:nvPr/>
          </p:nvGrpSpPr>
          <p:grpSpPr>
            <a:xfrm>
              <a:off x="1440" y="3695760"/>
              <a:ext cx="1909800" cy="1909800"/>
              <a:chOff x="1440" y="3695760"/>
              <a:chExt cx="1909800" cy="1909800"/>
            </a:xfrm>
          </p:grpSpPr>
          <p:sp>
            <p:nvSpPr>
              <p:cNvPr id="128"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29"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30"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131"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Building bridges</a:t>
            </a:r>
            <a:endParaRPr b="1" lang="en-US" sz="4400" spc="-1" strike="noStrike">
              <a:solidFill>
                <a:srgbClr val="ffffff"/>
              </a:solidFill>
              <a:latin typeface="Goudy Old Style"/>
            </a:endParaRPr>
          </a:p>
        </p:txBody>
      </p:sp>
      <p:sp>
        <p:nvSpPr>
          <p:cNvPr id="132" name="PlaceHolder 2"/>
          <p:cNvSpPr>
            <a:spLocks noGrp="1"/>
          </p:cNvSpPr>
          <p:nvPr>
            <p:ph type="subTitle"/>
          </p:nvPr>
        </p:nvSpPr>
        <p:spPr>
          <a:xfrm>
            <a:off x="2057040" y="3580920"/>
            <a:ext cx="6705720" cy="8384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talk as easily - and easier - with your lions friends on the Internet than with your next door neighbours</a:t>
            </a:r>
            <a:endParaRPr b="1" lang="en-US" sz="3200" spc="-1" strike="noStrike">
              <a:solidFill>
                <a:srgbClr val="660066"/>
              </a:solidFill>
              <a:latin typeface="Goudy Old Style"/>
            </a:endParaRPr>
          </a:p>
        </p:txBody>
      </p:sp>
      <p:pic>
        <p:nvPicPr>
          <p:cNvPr id="133" name="" descr=""/>
          <p:cNvPicPr/>
          <p:nvPr/>
        </p:nvPicPr>
        <p:blipFill>
          <a:blip r:embed="rId1"/>
          <a:stretch/>
        </p:blipFill>
        <p:spPr>
          <a:xfrm>
            <a:off x="5257800" y="5638680"/>
            <a:ext cx="3565440" cy="870120"/>
          </a:xfrm>
          <a:prstGeom prst="rect">
            <a:avLst/>
          </a:prstGeom>
          <a:ln w="0">
            <a:noFill/>
          </a:ln>
        </p:spPr>
      </p:pic>
      <p:pic>
        <p:nvPicPr>
          <p:cNvPr id="134" name="" descr=""/>
          <p:cNvPicPr/>
          <p:nvPr/>
        </p:nvPicPr>
        <p:blipFill>
          <a:blip r:embed="rId2"/>
          <a:stretch/>
        </p:blipFill>
        <p:spPr>
          <a:xfrm>
            <a:off x="7238880" y="533520"/>
            <a:ext cx="1384560" cy="1049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Distance ?  -  So what ?</a:t>
            </a:r>
            <a:endParaRPr b="1" lang="en-US" sz="4400" spc="-1" strike="noStrike">
              <a:solidFill>
                <a:srgbClr val="ffffff"/>
              </a:solidFill>
              <a:latin typeface="Goudy Old Style"/>
            </a:endParaRPr>
          </a:p>
        </p:txBody>
      </p:sp>
      <p:sp>
        <p:nvSpPr>
          <p:cNvPr id="136" name="PlaceHolder 2"/>
          <p:cNvSpPr>
            <a:spLocks noGrp="1"/>
          </p:cNvSpPr>
          <p:nvPr>
            <p:ph type="subTitle"/>
          </p:nvPr>
        </p:nvSpPr>
        <p:spPr>
          <a:xfrm>
            <a:off x="685440" y="1676160"/>
            <a:ext cx="8001000" cy="3809880"/>
          </a:xfrm>
          <a:prstGeom prst="rect">
            <a:avLst/>
          </a:prstGeom>
          <a:noFill/>
          <a:ln w="0">
            <a:noFill/>
          </a:ln>
        </p:spPr>
        <p:txBody>
          <a:bodyPr lIns="92160" rIns="92160" tIns="46080" bIns="46080" anchor="t">
            <a:noAutofit/>
          </a:bodyPr>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al time “chat” meetings </a:t>
            </a:r>
            <a:endParaRPr b="1" lang="en-US" sz="3200" spc="-1" strike="noStrike">
              <a:solidFill>
                <a:srgbClr val="660066"/>
              </a:solidFill>
              <a:latin typeface="Goudy Old Style"/>
            </a:endParaRPr>
          </a:p>
          <a:p>
            <a:pPr lvl="1" marL="457200">
              <a:lnSpc>
                <a:spcPct val="100000"/>
              </a:lnSpc>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for instance with Canadian, Finnish, US, Australian and Fiji lions</a:t>
            </a:r>
            <a:endParaRPr b="1" lang="en-US" sz="28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ime zones don’t matter with e-mail</a:t>
            </a: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N Int Adm: 6 people, 20-25 letters a day, each delivered in about 30 sec.,                    each answered 4-5 x / day.  </a:t>
            </a:r>
            <a:endParaRPr b="1" lang="en-US" sz="3200" spc="-1" strike="noStrike">
              <a:solidFill>
                <a:srgbClr val="660066"/>
              </a:solidFill>
              <a:latin typeface="Goudy Old Style"/>
            </a:endParaRPr>
          </a:p>
          <a:p>
            <a:pPr lvl="1" marL="457200">
              <a:lnSpc>
                <a:spcPct val="100000"/>
              </a:lnSpc>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No cost.</a:t>
            </a:r>
            <a:endParaRPr b="1" lang="en-US" sz="2800" spc="-1" strike="noStrike">
              <a:solidFill>
                <a:srgbClr val="660066"/>
              </a:solidFill>
              <a:latin typeface="Goudy Old Style"/>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6:36Z</dcterms:created>
  <dc:creator>LionNet-työryhmä</dc:creator>
  <dc:description/>
  <dc:language>en-US</dc:language>
  <cp:lastModifiedBy>Ilkka Siissalo</cp:lastModifiedBy>
  <cp:lastPrinted>1997-09-08T14:13:06Z</cp:lastPrinted>
  <dcterms:modified xsi:type="dcterms:W3CDTF">1997-10-05T19:21:56Z</dcterms:modified>
  <cp:revision>19253</cp:revision>
  <dc:subject/>
  <dc:title>LionNet-esittely</dc:title>
</cp:coreProperties>
</file>