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60792"/>
        <c:axId val="32068123"/>
      </c:barChart>
      <c:catAx>
        <c:axId val="97560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8123"/>
        <c:crosses val="autoZero"/>
        <c:auto val="1"/>
        <c:lblAlgn val="ctr"/>
        <c:lblOffset val="100"/>
        <c:noMultiLvlLbl val="0"/>
      </c:catAx>
      <c:valAx>
        <c:axId val="32068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0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98F-20A4-4189-8C92-47236631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8A0-71B4-46A4-BF2A-9682011F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257-3DFB-4445-9585-1A7E2B06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8B0-481D-491A-9768-2504C103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80C-5EA1-4641-8856-E04F641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34A-770E-4FCC-A038-05368BC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4C4-0A49-43C7-A070-9F183CA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C38-1021-44CB-9685-C657F45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D4C-076A-4ABA-A865-72F6EB9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43F-48AB-4791-9C5B-B567750B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E2C-A62D-419F-B8B2-EC84448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372-EA76-435D-99F8-2F22CF56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40007-4ABD-4282-8519-E9394F2F9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