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57783"/>
        <c:axId val="31662737"/>
      </c:barChart>
      <c:catAx>
        <c:axId val="26157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62737"/>
        <c:crosses val="autoZero"/>
        <c:auto val="1"/>
        <c:lblAlgn val="ctr"/>
        <c:lblOffset val="100"/>
        <c:noMultiLvlLbl val="0"/>
      </c:catAx>
      <c:valAx>
        <c:axId val="31662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57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AF65-7A2E-4CE6-8783-8CA610C1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A56A-5E67-4660-9BCB-F7037F59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E48-E1B9-4746-A227-A99654C2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01D1-8767-405E-99C7-FE7462B8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145-DCA8-4A24-B55D-EA3B6DC1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90FA-16B6-48C9-9157-302E754F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DDAA-CFF4-4D77-B222-02C2F67E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5F8-30C6-4204-BF0A-DE572E9B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FE62-D706-4C71-8E94-FA7EBBA0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17D4-A035-4CC4-87E8-6D7F5C5F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D048-1500-482D-A9C7-EE3D4D6B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9B44-4466-4B58-9569-6440688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775C9-4488-4AE8-B3E9-A2A95DEA92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