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21011"/>
        <c:axId val="10278701"/>
      </c:barChart>
      <c:catAx>
        <c:axId val="55821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78701"/>
        <c:crosses val="autoZero"/>
        <c:auto val="1"/>
        <c:lblAlgn val="ctr"/>
        <c:lblOffset val="100"/>
        <c:noMultiLvlLbl val="0"/>
      </c:catAx>
      <c:valAx>
        <c:axId val="10278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21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CD6F-BC82-4018-A5C9-F6BADF6D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86C-05E1-460C-A262-19EB30B2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96E-0738-4176-A624-CCEE3617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41A-624E-4297-B978-4B1E5658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6E95-2A70-4488-A2D1-C4DB1487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AD72-E2A1-40AB-B992-BEAEF7AD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E4C-8D74-4742-A7C5-B4F97058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88F-ACB3-4200-9BE7-4D9934B1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B73-61AE-4AE6-BBB9-935716FA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FA0-653B-4FDA-9B44-3CAF2D8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4AFD-54F7-4D49-8C8D-06825E2C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F31-61A8-4778-A4FB-E517BFC6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D6ADE-091D-4003-A80E-9CD73AE1F1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