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V: Tcl C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4A759F11-88C8-46DC-B944-505B4D6D5DCC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riting Tcl-Based Applications In 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6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33520" y="12952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command procedure in 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ClientData clientData, Tcl_Inter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*interp, int argc, char **argv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argc != 3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wrong # args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return TCL_ERROR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strcmp(argv[1], argv[2]) == 0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1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 else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0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OK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33520" y="17524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er with interpre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(ClientData) NULL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Command(interp, "eq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ce registered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Cm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wheneve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is invok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lient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33520" y="12952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 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 {...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pass any one-word value to command procedures and other callbac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usually a pointer to data structure manipulated by proced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t pointers in and out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yp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... (ClientData) gizmoPtr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izmoPtr = (Gizmo *) clientDat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ventions For Pack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make it easy to develop and use Tcl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Use package prefixes to prevent name confli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ck short prefix for package, e.g.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in all global na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procedur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O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variabl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NumRec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qu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e Tcl book and Tcl/Tk Engineering Manual for more detai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Create package initialization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d after package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package'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s startup script, if a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Rdb_Init(Tcl_Interp *interp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EvalFile(interp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"/usr/local/lib/rdb/init.tcl"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3716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To use pack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119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e as shared library, e.g. on Solaris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c -K pic -c rdb.c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d -G -z text rdb.o -o rdb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ally load into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oad rdb.so Rd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initialize the pack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anaging The Result St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conventions f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mit results of any leng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verheads if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storage reclamation probl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as simple as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state of interpreter (e.g., whenever command procedure is invoked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: command returns empty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76920" y="41148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324480" y="42670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95288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410080" y="50292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324480" y="45720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95288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178600" y="51544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083360" y="4392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102280" y="5078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102280" y="49258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78600" y="4925880"/>
            <a:ext cx="19047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08336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7159680" y="4468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702480" y="43927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659640" y="43513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102280" y="50022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812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267080" y="43736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1447920"/>
            <a:ext cx="70866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1: (semi-) static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"0"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2: use pre-allocated space in inter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printf(interp-&gt;result, "Value is %d", i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429000" y="2286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6920" y="2438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50532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962520" y="3200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876920" y="2743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505320" y="2666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211720" y="25192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60020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2544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29000" y="4572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4724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50532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962520" y="5486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Value is 2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876920" y="5029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505320" y="4952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730680" y="5611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63580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654360" y="5535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54360" y="53830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730680" y="538308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635800" y="53071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5711760" y="49258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254560" y="4849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211720" y="48085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654360" y="54594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60020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819520" y="4830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257800" y="255888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172200" y="2376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0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5715000" y="560700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400800" y="54244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~200 by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3: allocate new space for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malloc(2000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freeProc = fre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5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if not NULL) to dispose of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chanism supports storage allocators other tha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505320" y="27432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2880" y="28954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58128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038480" y="36576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952880" y="3200400"/>
            <a:ext cx="7621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581280" y="3124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288040" y="29797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67652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95480" y="30020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334120" y="301932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324480" y="2638440"/>
            <a:ext cx="838080" cy="170496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 For Managing Resul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4: use library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Result(interp, string, ...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Result(interp, string,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tring, ... string, (char *) NULL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Element(interp, string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ResetResult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ilosophy: focus o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s: interpreters, executing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ing new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packages; dynamic loa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the result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ful library procedures: parsing, variables, lists, hash t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Pars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by command procedures to parse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value, cod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GetInt(interp, argv[1], &amp;valu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s integer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O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parse error, 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leaves message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Double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Dou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Boolean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Bool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Long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Vari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, write, and uns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har *valu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value = Tcl_GetVar(interp, "a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Var(interp, "a", "new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UnsetVar(interp, "a"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tra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TraceVar(interp, "a"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CL_TRACE_READS|TCL_TRACE_WRITES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raceProc, clientDat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rac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during each read or write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monitor ac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override value read or writ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tility 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ing, assembling proper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plitLis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Merg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exible hash t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itHashTabl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Find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Tabl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Ini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Elemen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Valu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Fre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faces to C are simple: Tcl was designed to make this tr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cus on primitives, use Tcl scripts to compose fanc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2952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ually better to write Tcl scripts than C c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ster development (higher level, no compilatio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flex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write 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access to low-level facilities (sockets?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iciency concerns (iterative calculation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more structure (code is complex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new Tcl commands that provide a few simple orthogonal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-level to provide independent access to all ke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to hide unimportant details, allow efficient implem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: Weather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21932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retrieve weather reports over network from serv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report, format, print 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d outp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 socket to weather ser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s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first line of report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list of available st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 station name, retrieve re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5791320" y="2209680"/>
            <a:ext cx="152640" cy="686520"/>
            <a:chOff x="5791320" y="2209680"/>
            <a:chExt cx="152640" cy="686520"/>
          </a:xfrm>
        </p:grpSpPr>
        <p:sp>
          <p:nvSpPr>
            <p:cNvPr id="88" name=""/>
            <p:cNvSpPr/>
            <p:nvPr/>
          </p:nvSpPr>
          <p:spPr>
            <a:xfrm>
              <a:off x="5791320" y="22096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91320" y="28386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867280" y="255276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867280" y="26100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867280" y="226692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867280" y="249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5791320" y="3505320"/>
            <a:ext cx="152640" cy="1067040"/>
            <a:chOff x="5791320" y="3505320"/>
            <a:chExt cx="152640" cy="1067040"/>
          </a:xfrm>
        </p:grpSpPr>
        <p:sp>
          <p:nvSpPr>
            <p:cNvPr id="95" name=""/>
            <p:cNvSpPr/>
            <p:nvPr/>
          </p:nvSpPr>
          <p:spPr>
            <a:xfrm>
              <a:off x="5791320" y="350532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213" y="248"/>
                  </a:moveTo>
                  <a:lnTo>
                    <a:pt x="213" y="248"/>
                  </a:lnTo>
                  <a:lnTo>
                    <a:pt x="213" y="248"/>
                  </a:lnTo>
                  <a:cubicBezTo>
                    <a:pt x="213" y="204"/>
                    <a:pt x="203" y="162"/>
                    <a:pt x="184" y="124"/>
                  </a:cubicBezTo>
                  <a:cubicBezTo>
                    <a:pt x="166" y="86"/>
                    <a:pt x="139" y="55"/>
                    <a:pt x="106" y="33"/>
                  </a:cubicBezTo>
                  <a:cubicBezTo>
                    <a:pt x="74" y="11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791320" y="44830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7280" y="40384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7280" y="4127400"/>
              <a:ext cx="0" cy="35568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7280" y="3594240"/>
              <a:ext cx="0" cy="3553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7280" y="394956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0"/>
                  </a:moveTo>
                  <a:lnTo>
                    <a:pt x="0" y="0"/>
                  </a:lnTo>
                  <a:cubicBezTo>
                    <a:pt x="0" y="44"/>
                    <a:pt x="10" y="86"/>
                    <a:pt x="29" y="124"/>
                  </a:cubicBezTo>
                  <a:cubicBezTo>
                    <a:pt x="47" y="162"/>
                    <a:pt x="74" y="193"/>
                    <a:pt x="107" y="215"/>
                  </a:cubicBezTo>
                  <a:cubicBezTo>
                    <a:pt x="139" y="237"/>
                    <a:pt x="176" y="248"/>
                    <a:pt x="213" y="248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5791320" y="5105520"/>
            <a:ext cx="152640" cy="686160"/>
            <a:chOff x="5791320" y="5105520"/>
            <a:chExt cx="152640" cy="686160"/>
          </a:xfrm>
        </p:grpSpPr>
        <p:sp>
          <p:nvSpPr>
            <p:cNvPr id="102" name=""/>
            <p:cNvSpPr/>
            <p:nvPr/>
          </p:nvSpPr>
          <p:spPr>
            <a:xfrm>
              <a:off x="5791320" y="510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791320" y="57340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867280" y="544824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867280" y="550548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867280" y="51624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867280" y="53910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"/>
          <p:cNvSpPr txBox="1"/>
          <p:nvPr/>
        </p:nvSpPr>
        <p:spPr>
          <a:xfrm>
            <a:off x="5943600" y="23623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high-level (inflexi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943600" y="38401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low-level (tediou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943600" y="525780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ust 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e textual names for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ile3 or std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hash tables to map to C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 configure -fg 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for small numbers of well-defin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esn't pollute nam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similar commands for different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on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compare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if many objects or short-liv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atting command 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easy to parse with Tcl script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mp 53 hi 68 lo 37 precip .02 sky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symbolic wherever possible, e.g. not</a:t>
            </a:r>
            <a:br>
              <a:rPr sz="2400"/>
            </a:b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53 68 37 .02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age prefixe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command names and global vari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station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repor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midi_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packages to coexist without name clash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erpre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Interp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cture encapsulates execution sta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implemented in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ion sta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have many interpreters in a single application (but usually just on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and deleting interpre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terp *inter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 = Tcl_CreateInterp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Interp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ecuting Tcl Scrip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cod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(interp, "set a 1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File(interp, "init.tcl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dicates success or fail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normal comple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RR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error occur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ints to string: result or error mess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should display result or message for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Do Scripts Come Fro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tandard input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cript file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with X events, wait for events, invoke associated scripts (see tk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Last of four talks in all-day Tcl/Tk tutorial. Covers the C interfaces to Tcl.</dc:description>
  <dc:language>en-US</dc:language>
  <cp:lastModifiedBy>Sun Microsystems</cp:lastModifiedBy>
  <cp:revision>0</cp:revision>
  <dc:subject/>
  <dc:title>Writing Tcl-Based Applications In C</dc:title>
</cp:coreProperties>
</file>