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34880" y="152280"/>
            <a:ext cx="84297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intosh Application Environment™ 2.0 (MAE)</a:t>
            </a:r>
            <a:br>
              <a:rPr sz="1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  virtuelle Macintosh für offene Syste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380880" y="1390680"/>
            <a:ext cx="8610840" cy="5162400"/>
            <a:chOff x="380880" y="1390680"/>
            <a:chExt cx="8610840" cy="5162400"/>
          </a:xfrm>
        </p:grpSpPr>
        <p:sp>
          <p:nvSpPr>
            <p:cNvPr id="41" name=""/>
            <p:cNvSpPr txBox="1"/>
            <p:nvPr/>
          </p:nvSpPr>
          <p:spPr>
            <a:xfrm>
              <a:off x="380880" y="1390680"/>
              <a:ext cx="4657680" cy="516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  <a:buClr>
                  <a:srgbClr val="000000"/>
                </a:buClr>
                <a:buSzPct val="75000"/>
                <a:buFont typeface="Wingdings"/>
                <a:buChar char=""/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cintosh®-Anwendungen auf SPARC-Workstations unter Solaris 2.3 oder 2.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  <a:buClr>
                  <a:srgbClr val="000000"/>
                </a:buClr>
                <a:buSzPct val="75000"/>
                <a:buFont typeface="Wingdings"/>
                <a:buChar char=""/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t MAE 2.0 steht Ihnen die Benutzeroberfläche von System 7.1, einschließlich des Finders, zur Verfügun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  <a:buClr>
                  <a:srgbClr val="000000"/>
                </a:buClr>
                <a:buSzPct val="75000"/>
                <a:buFont typeface="Wingdings"/>
                <a:buChar char=""/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E 2.0 unterstützt AppleTalk , bietet Leistungs-verbesserungen, Mac TCP, Klang und vieles meh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 txBox="1"/>
            <p:nvPr/>
          </p:nvSpPr>
          <p:spPr>
            <a:xfrm>
              <a:off x="5257800" y="1390680"/>
              <a:ext cx="3733920" cy="432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itere Informatione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u</a:t>
              </a:r>
              <a:br>
                <a:rPr sz="2000"/>
              </a:b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E 2.0 finden Sie in der MAE- Web-Seite unter dem URL: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://www.mae.apple.c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der über den MAE-FTP-Server unter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tp.support.apple.c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Verzeichnis /pub/mae). Eine Testversion von MAE 1.0 finden Sie auch auf der aktuellen CD SunSoft Catalyst CDWare™ for SPARC®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"/>
          <p:cNvSpPr txBox="1"/>
          <p:nvPr/>
        </p:nvSpPr>
        <p:spPr>
          <a:xfrm>
            <a:off x="5257800" y="4857840"/>
            <a:ext cx="3733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um Kauf von MA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nden Sie sich an Ihren Apple-Händler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