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31760" cy="6845760"/>
            <a:chOff x="0" y="0"/>
            <a:chExt cx="9131760" cy="684576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3640" cy="5259600"/>
            </a:xfrm>
            <a:custGeom>
              <a:avLst/>
              <a:gdLst/>
              <a:ahLst/>
              <a:rect l="0" t="0" r="r" b="b"/>
              <a:pathLst>
                <a:path w="10399" h="14610">
                  <a:moveTo>
                    <a:pt x="8401" y="14606"/>
                  </a:moveTo>
                  <a:lnTo>
                    <a:pt x="10399" y="14610"/>
                  </a:lnTo>
                  <a:lnTo>
                    <a:pt x="10399" y="6336"/>
                  </a:lnTo>
                  <a:lnTo>
                    <a:pt x="0" y="0"/>
                  </a:lnTo>
                  <a:lnTo>
                    <a:pt x="886" y="661"/>
                  </a:lnTo>
                  <a:lnTo>
                    <a:pt x="1613" y="1230"/>
                  </a:lnTo>
                  <a:lnTo>
                    <a:pt x="2434" y="1944"/>
                  </a:lnTo>
                  <a:lnTo>
                    <a:pt x="3227" y="2698"/>
                  </a:lnTo>
                  <a:lnTo>
                    <a:pt x="4392" y="3981"/>
                  </a:lnTo>
                  <a:lnTo>
                    <a:pt x="5424" y="5344"/>
                  </a:lnTo>
                  <a:lnTo>
                    <a:pt x="6174" y="6535"/>
                  </a:lnTo>
                  <a:lnTo>
                    <a:pt x="6827" y="7766"/>
                  </a:lnTo>
                  <a:lnTo>
                    <a:pt x="7343" y="8996"/>
                  </a:lnTo>
                  <a:lnTo>
                    <a:pt x="7722" y="10121"/>
                  </a:lnTo>
                  <a:lnTo>
                    <a:pt x="7978" y="11073"/>
                  </a:lnTo>
                  <a:lnTo>
                    <a:pt x="8216" y="12251"/>
                  </a:lnTo>
                  <a:lnTo>
                    <a:pt x="8335" y="13283"/>
                  </a:lnTo>
                  <a:lnTo>
                    <a:pt x="8401" y="14606"/>
                  </a:lnTo>
                  <a:close/>
                </a:path>
              </a:pathLst>
            </a:custGeom>
            <a:gradFill rotWithShape="0">
              <a:gsLst>
                <a:gs pos="0">
                  <a:srgbClr val="ccccc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411040" cy="6845760"/>
            </a:xfrm>
            <a:custGeom>
              <a:avLst/>
              <a:gdLst/>
              <a:ahLst/>
              <a:rect l="0" t="0" r="r" b="b"/>
              <a:pathLst>
                <a:path fill="none" w="23364" h="19016">
                  <a:moveTo>
                    <a:pt x="23364" y="19016"/>
                  </a:moveTo>
                  <a:lnTo>
                    <a:pt x="23364" y="19016"/>
                  </a:lnTo>
                  <a:lnTo>
                    <a:pt x="23364" y="19016"/>
                  </a:lnTo>
                  <a:cubicBezTo>
                    <a:pt x="23364" y="15678"/>
                    <a:pt x="22284" y="12399"/>
                    <a:pt x="20234" y="9508"/>
                  </a:cubicBezTo>
                  <a:cubicBezTo>
                    <a:pt x="18183" y="6617"/>
                    <a:pt x="15234" y="4217"/>
                    <a:pt x="11682" y="2548"/>
                  </a:cubicBezTo>
                  <a:cubicBezTo>
                    <a:pt x="8130" y="879"/>
                    <a:pt x="4101" y="0"/>
                    <a:pt x="0" y="0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 txBox="1"/>
          <p:nvPr/>
        </p:nvSpPr>
        <p:spPr>
          <a:xfrm>
            <a:off x="685800" y="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pour environnement d'exploitation Solari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x86</a:t>
            </a:r>
            <a:br>
              <a:rPr sz="1800"/>
            </a:b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Exécute vos applications MS-DOS sur Int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"/>
          <p:cNvSpPr txBox="1"/>
          <p:nvPr/>
        </p:nvSpPr>
        <p:spPr>
          <a:xfrm>
            <a:off x="380880" y="1143000"/>
            <a:ext cx="4572000" cy="511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559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rge pour environnement d'exploitation Solaris x86 place toute la puissance des environnements Solaris e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S-DOS ou Microsoft Windows entre vos ma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59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rge permet aux utilisateurs Solaris x86 d'accéder à des milliers d'applications MS-DOS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59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 plus, Merge accepte plus d'applications Microsoft Windows que n'en comporte la liste de logiciels Wab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ertifi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 txBox="1"/>
          <p:nvPr/>
        </p:nvSpPr>
        <p:spPr>
          <a:xfrm>
            <a:off x="5181480" y="3200400"/>
            <a:ext cx="3733920" cy="271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ur plus d'information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r Merge, appelez le 512/434-1511 et composez le 1. Vous pouvez aussi accéder à notre site World Wide Web au :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ww.sun.com/sunsoft/Products/PC-Integration-produ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5181480" y="4998960"/>
            <a:ext cx="3733920" cy="18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ur acheter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erge, appelez le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2/434-1511 et composez le 2. Vous pouvez aussi contacter votre revendeur Sun loc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5162400" y="1328760"/>
            <a:ext cx="3695760" cy="161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MARQU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disponible en anglais uniquement, Merge accepte toutefois les versions localisées de MS-DOS, Microsoft Windows et des applic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