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76929"/>
        <c:axId val="39491301"/>
      </c:barChart>
      <c:catAx>
        <c:axId val="68476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91301"/>
        <c:crosses val="autoZero"/>
        <c:auto val="1"/>
        <c:lblAlgn val="ctr"/>
        <c:lblOffset val="100"/>
        <c:noMultiLvlLbl val="0"/>
      </c:catAx>
      <c:valAx>
        <c:axId val="394913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76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6D2-6062-43B5-8175-8BD66AD8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7D39-65E9-4713-9405-46A3A15F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8CB-E6D5-47EF-88F7-DE8759AC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340-247D-4013-8D2C-BC09EC91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8EB9-F2AD-4092-A8AF-937740EB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ABB-95F4-4266-9F76-DD9F9A6E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EFC-A2DC-42DA-8AEC-B7B89A44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CF4-2546-46B1-AFE8-B616A8E0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AE9-6CD1-41D5-A0A6-9207EB93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482D-823F-4744-B5D8-3C215A66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387-2399-4D3D-BFBA-76B5C242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67E-7FE6-4300-954A-75E726D3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EEE93-8290-4EA2-AEA4-E9920BAE34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