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56486"/>
        <c:axId val="68526315"/>
      </c:barChart>
      <c:catAx>
        <c:axId val="73756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26315"/>
        <c:crosses val="autoZero"/>
        <c:auto val="1"/>
        <c:lblAlgn val="ctr"/>
        <c:lblOffset val="100"/>
        <c:noMultiLvlLbl val="0"/>
      </c:catAx>
      <c:valAx>
        <c:axId val="6852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56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D64-EB40-4A6E-A855-2E6BDFC1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C61-1863-449D-B63E-8D7744D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8D0-3460-4D42-9A0D-A4608DB6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2B0-1305-46EA-B0B9-2BFAC36B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E82-2C74-4CBF-B718-F66DF6BA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B42-A76B-4800-9B4E-5DBC17D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411-B7AB-4C24-9B82-E6D5E2D5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D89-E0D9-45F5-BC1C-2B24E29E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AC4-E461-47E3-9C28-1DE1CA50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7D1-A79A-4480-8EF7-462322C3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4DE-247A-4057-8937-9C06C4DA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FD7-D524-4CA8-859B-CACADC2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13566-EC50-4449-B110-38FFB31F4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