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110434"/>
        <c:axId val="5112151"/>
      </c:barChart>
      <c:catAx>
        <c:axId val="811104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2151"/>
        <c:crosses val="autoZero"/>
        <c:auto val="1"/>
        <c:lblAlgn val="ctr"/>
        <c:lblOffset val="100"/>
        <c:noMultiLvlLbl val="0"/>
      </c:catAx>
      <c:valAx>
        <c:axId val="51121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104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D2E-856D-440E-8EB0-EE17D9F4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6EC-E6F8-492D-95F0-F9C5C3A3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F8D-7D2C-413E-9D25-5E6A0354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763D-719A-4A95-916B-A6B96B8B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0DB-632E-411A-A839-996BBEF0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107-0ECA-4C1A-AF3C-DFC018F5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6FAF-C6D2-4521-8460-F67D3B84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F11B-C4E0-457B-8C3D-97CE84BB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D07-5B87-48F7-BCEA-78BCF97C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A5D-2D0C-4026-980C-9763E89E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970B-0C67-4AE8-B151-757EC826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5BE-DA7D-4763-87E9-EC95889A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94898-A612-4F4C-84F1-E4B9CFC10F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