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24064"/>
        <c:axId val="74559118"/>
      </c:barChart>
      <c:catAx>
        <c:axId val="94624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59118"/>
        <c:crosses val="autoZero"/>
        <c:auto val="1"/>
        <c:lblAlgn val="ctr"/>
        <c:lblOffset val="100"/>
        <c:noMultiLvlLbl val="0"/>
      </c:catAx>
      <c:valAx>
        <c:axId val="74559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24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E7A-D403-486D-A159-5CC15617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7CD-B8A5-4EEC-826B-2BA7574D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B0F-9E58-4FF0-92CE-657E7D35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381-D883-44FA-83AC-EBD6370B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CCF-B40E-4226-A9FD-555BA4E2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45D-5B18-4ED8-A971-7D23A5A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7FB-FCEC-424B-A46B-588C50C7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2E9-5F38-484E-9627-A11E380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1FA-6582-4AA7-9E80-05B55A33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F57-450D-464E-8427-1C12D97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692-2772-4409-B35F-319D767B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268-FAB7-4118-B1E2-56C0EF7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0DEC9-6DB3-4B23-858D-DC83513897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