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93293"/>
        <c:axId val="76232709"/>
      </c:barChart>
      <c:catAx>
        <c:axId val="632932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32709"/>
        <c:crosses val="autoZero"/>
        <c:auto val="1"/>
        <c:lblAlgn val="ctr"/>
        <c:lblOffset val="100"/>
        <c:noMultiLvlLbl val="0"/>
      </c:catAx>
      <c:valAx>
        <c:axId val="762327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932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095-E0A6-4F47-9701-F0972682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EFE-22F1-4362-8CB2-0EB71D22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9F4-7F51-42A6-A031-B4A5CA22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12D3-F900-440B-AEB0-71535F34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3A05-4FEC-45AA-9179-DC9EDCEB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F4A-F035-4859-8D62-8C3BD28E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4637-5B2F-4666-B884-54D27C36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EB91-1713-417B-BC3C-E3786AA5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0FC4-396E-4E76-9804-AAF96A1C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F73-3F85-44B1-AD37-B75A3687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EE27-C3EF-4E79-A588-3F6257B0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2758-9D28-4C4E-A5D5-FEB086FF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BD4CB-499E-4F27-A08D-EA9774FDE4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