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99595"/>
        <c:axId val="49680764"/>
      </c:barChart>
      <c:catAx>
        <c:axId val="27699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80764"/>
        <c:crosses val="autoZero"/>
        <c:auto val="1"/>
        <c:lblAlgn val="ctr"/>
        <c:lblOffset val="100"/>
        <c:noMultiLvlLbl val="0"/>
      </c:catAx>
      <c:valAx>
        <c:axId val="496807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99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AE09-9C4A-4E2B-BEE2-65A93F24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E37-74B2-482F-BE1D-E0799E85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D76E-9AA6-4FBB-9FD2-7F0C6BAD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63F2-7575-48BD-AEA8-5D95D2DB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F77-D446-431C-89A1-F9B1420D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6BAB-D334-4EC5-80B1-A3407CC8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B43-3F28-4F84-8A76-CF3F4E61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3996-E312-42B7-B946-C41A9544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A8E2-F50C-47DC-8AC9-ECE6BB50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B4E7-E46A-439F-A87F-441745CC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66E0-B930-484B-A9A1-41CFE601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045-F4DF-49E5-9FE1-D5DB0512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24F4F-56D6-44F1-8F49-EFF8E3A58E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