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52850"/>
        <c:axId val="87705720"/>
      </c:barChart>
      <c:catAx>
        <c:axId val="81652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05720"/>
        <c:crosses val="autoZero"/>
        <c:auto val="1"/>
        <c:lblAlgn val="ctr"/>
        <c:lblOffset val="100"/>
        <c:noMultiLvlLbl val="0"/>
      </c:catAx>
      <c:valAx>
        <c:axId val="87705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52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DE6-585D-4E42-8437-11E4BD10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08F-EE6F-4649-A22D-6A0F67DB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603-57BF-4E36-BB40-408B5EA8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7FE-F12B-4F42-B168-8D839CBE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284-3B2D-4649-A7F4-AFEA553B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D85-7FA6-4B98-8AF6-CDCF590F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77C-8007-401E-8705-F9DC45A7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A55-319F-4E93-ABE9-C610F25C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D25-F70F-4E87-BB6D-B41F7D53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DB9-BC6C-4089-8A9E-E65264DC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9F2-6510-404B-91F4-09FBEBE1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F2A-CB1E-4810-BDC5-62F58F70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99A26-0E7F-49AA-B427-0063818767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